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5.xml.rels" ContentType="application/vnd.openxmlformats-package.relationships+xml"/>
  <Override PartName="/ppt/slides/_rels/slide95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2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2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126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125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24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118.xml" ContentType="application/vnd.openxmlformats-officedocument.presentationml.slide+xml"/>
  <Override PartName="/ppt/slides/slide7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4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  <p:sldId id="375" r:id="rId126"/>
    <p:sldId id="376" r:id="rId127"/>
    <p:sldId id="377" r:id="rId128"/>
    <p:sldId id="378" r:id="rId129"/>
    <p:sldId id="379" r:id="rId130"/>
    <p:sldId id="380" r:id="rId131"/>
    <p:sldId id="381" r:id="rId1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slide" Target="slides/slide120.xml"/><Relationship Id="rId127" Type="http://schemas.openxmlformats.org/officeDocument/2006/relationships/slide" Target="slides/slide121.xml"/><Relationship Id="rId128" Type="http://schemas.openxmlformats.org/officeDocument/2006/relationships/slide" Target="slides/slide122.xml"/><Relationship Id="rId129" Type="http://schemas.openxmlformats.org/officeDocument/2006/relationships/slide" Target="slides/slide123.xml"/><Relationship Id="rId130" Type="http://schemas.openxmlformats.org/officeDocument/2006/relationships/slide" Target="slides/slide124.xml"/><Relationship Id="rId131" Type="http://schemas.openxmlformats.org/officeDocument/2006/relationships/slide" Target="slides/slide125.xml"/><Relationship Id="rId132" Type="http://schemas.openxmlformats.org/officeDocument/2006/relationships/slide" Target="slides/slide126.xml"/><Relationship Id="rId1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23A5-1D69-4872-87D9-134F54E68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6D12-7037-42DF-A96D-0968202D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A4D6-B1BF-47AA-9B7D-686E30358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B937-359F-4180-8B0C-D70A789D9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5077-A1C9-4D78-93C7-B6A38EFF3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D9A4-5DDD-4497-9C6F-BC516A18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F4F1-EFE1-4430-A0C3-38E9F70C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F52B-5796-4F5C-BF09-0CB80C26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97B9-4C3F-4DAE-B79E-8C00A197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A10D-DF13-4BF9-90BF-E228C2C8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A209-34D5-4DBE-B364-410C3CD0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7299-795E-4053-BF1D-D03C4FE5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701B-D2A3-4CD1-B087-CA042742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D9D1-4C47-4D7E-9F9D-54B1ED81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94D8-CA52-4339-9CE5-8381B893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AF60-E5AA-451A-9F07-E57824202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FAEF-2CC7-48B1-86A6-947B441B7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9D7ACB-C21E-4986-838A-DD64255C0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123B6A-9030-46B9-B1A3-19246219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228966-C043-498B-A7BF-CDFFAEA1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208F28-D864-4250-943A-31936E64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87DF91-B808-44A5-A555-E6EEBC8C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E5B8-A766-47C3-A2E7-98B98CC7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BD6179-1651-49FC-B8B5-FB0F02EB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88FF14-943E-4BA7-8EFE-91055D9C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F165DE-FB9E-42DB-B64D-BC0FAFA3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200561-C752-4F5A-926D-6AFC1B53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37E0BE-93D2-4822-B83E-CF47F5B2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6E03A3-B765-4672-8FBF-B4C655389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7C4974-120F-4529-BA3A-3545D4457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4B726-A6CA-480A-9FEE-A339E0F84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21203-A8B9-4D67-A8E2-9CFC73A5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F3CBA-D459-4D66-8F52-DF4CC75C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B6BC-D7C3-4683-89F0-31F96867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4EFC9-0183-4751-9B80-7BAD4BDD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F5F0C-0C92-41C1-9E1D-04D9FAEF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EB34B-32A6-466B-80FD-0AD5EADD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0BF11-A32E-4CE0-ACC8-8E8C49E7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5A6E6-5203-4349-8DE1-1AE6EDB3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411BA-9511-4594-A60C-24FB924B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82DDA-E63C-4DE9-B53B-CDBE6908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814AA-1F04-4A37-A2C7-9C617FEB0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55252-CE2F-4FF9-A985-D52356D47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4DE29-A5F8-4A41-BC5B-B41A5767C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E792-007F-4E67-B4E1-E6BECE05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A7963-0E18-4989-B159-0B90B439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2FDF9-542B-40B9-B717-B10E02A3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2CD1D-F1BC-49F3-8F5F-65E50870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E3097-C2D0-484C-8974-0595CAD2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C5F56-263F-47DD-AE27-CF75EC24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FCA05-5298-4B04-9521-AED78CDC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39A16-D6F8-4947-8FAD-C733D7B7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68C41-48A8-42F6-A231-D0409C8D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701AF-0DB8-495C-A427-68BE6E59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C3933-B89A-4D02-8884-05E6C9C27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80EC-CC49-401A-8BBA-25A06C7B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CFC28-BF82-4ADF-9DAB-0A13EDE9E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264E-00C6-49A2-8D29-6993A35A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2CF4-24E9-404E-8F12-C01EF119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172F-B74C-4C35-8EF9-D35226AD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3E9C-54CB-4434-B204-52F020C5A0BD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B952-EEF1-430F-87C6-F7F9F0DEE8F0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70C8-85D2-4041-84C5-888BE89812CB}" type="datetime"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07/29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ED5A-31DF-434B-AB3B-1DEE1AD9A8DE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01C6-A9BF-45EA-A178-C08E35EFE65A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8ECD-6794-4C12-B5A8-61B74CCE2727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DAF7-C0F9-412E-9A34-DB0051495F64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EFB4-DCAC-4338-81AD-67FA1C89764B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336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337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38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342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346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9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" name="Freeform 43"/>
            <p:cNvSpPr/>
            <p:nvPr/>
          </p:nvSpPr>
          <p:spPr>
            <a:xfrm>
              <a:off x="648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44"/>
            <p:cNvSpPr/>
            <p:nvPr/>
          </p:nvSpPr>
          <p:spPr>
            <a:xfrm>
              <a:off x="648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45"/>
            <p:cNvSpPr/>
            <p:nvPr/>
          </p:nvSpPr>
          <p:spPr>
            <a:xfrm>
              <a:off x="5364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46"/>
            <p:cNvSpPr/>
            <p:nvPr/>
          </p:nvSpPr>
          <p:spPr>
            <a:xfrm>
              <a:off x="648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48"/>
            <p:cNvSpPr/>
            <p:nvPr/>
          </p:nvSpPr>
          <p:spPr>
            <a:xfrm>
              <a:off x="221436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54"/>
            <p:cNvSpPr/>
            <p:nvPr/>
          </p:nvSpPr>
          <p:spPr>
            <a:xfrm rot="1800000">
              <a:off x="-30492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98"/>
            <p:cNvSpPr/>
            <p:nvPr/>
          </p:nvSpPr>
          <p:spPr>
            <a:xfrm rot="1800000">
              <a:off x="838548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99"/>
            <p:cNvSpPr/>
            <p:nvPr/>
          </p:nvSpPr>
          <p:spPr>
            <a:xfrm rot="1800000">
              <a:off x="838512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D6E3-B82F-466A-85C2-DDEB8A15828B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90FD-AE42-41F8-A200-104CD60AC328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4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49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71712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ДИСТРИБУЦИЈ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ТЕЛЕСНЕ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ВОДЕ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У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ПРОЦЕНТИМ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(%)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ТЕЛЕСНЕ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МАСЕ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358920" y="1881360"/>
          <a:ext cx="8424720" cy="4532040"/>
        </p:xfrm>
        <a:graphic>
          <a:graphicData uri="http://schemas.openxmlformats.org/drawingml/2006/table">
            <a:tbl>
              <a:tblPr/>
              <a:tblGrid>
                <a:gridCol w="1908000"/>
                <a:gridCol w="2197080"/>
                <a:gridCol w="2051280"/>
                <a:gridCol w="2268360"/>
              </a:tblGrid>
              <a:tr h="93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зра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купна вод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траћелијск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кстраћелијск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-1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-3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с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-12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мес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од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од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-10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од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-16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од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533520" y="2351160"/>
            <a:ext cx="8076960" cy="35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RESPIRATIO INSENSIBILIS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45%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                 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КОЖ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3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                 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ПЛУЋ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15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ДИУРЕЗ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                               5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СТОЛИЦ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                                5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1447920" y="1087560"/>
            <a:ext cx="621828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ФИЗИОЛОШКИ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ГУБИЦИ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ВОД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11280" y="1027080"/>
            <a:ext cx="7456320" cy="96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Терапиј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онатремије</a:t>
            </a:r>
            <a:br>
              <a:rPr sz="3200"/>
            </a:br>
            <a:r>
              <a:rPr b="0" lang="sr-Latn-CS" sz="2400" spc="-1" strike="noStrike">
                <a:solidFill>
                  <a:srgbClr val="94c600"/>
                </a:solidFill>
                <a:latin typeface="Century Gothic"/>
              </a:rPr>
              <a:t>- </a:t>
            </a:r>
            <a:r>
              <a:rPr b="0" lang="sr-RS" sz="2400" spc="-1" strike="noStrike">
                <a:solidFill>
                  <a:srgbClr val="94c600"/>
                </a:solidFill>
                <a:latin typeface="Century Gothic"/>
              </a:rPr>
              <a:t>принципи</a:t>
            </a:r>
            <a:r>
              <a:rPr b="0" lang="sr-Latn-CS" sz="2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94c600"/>
                </a:solidFill>
                <a:latin typeface="Century Gothic"/>
              </a:rPr>
              <a:t>терапије</a:t>
            </a:r>
            <a:r>
              <a:rPr b="0" lang="sr-Latn-CS" sz="2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94c600"/>
                </a:solidFill>
                <a:latin typeface="Century Gothic"/>
              </a:rPr>
              <a:t>дехидрације</a:t>
            </a:r>
            <a:r>
              <a:rPr b="0" lang="sr-Latn-CS" sz="2400" spc="-1" strike="noStrike">
                <a:solidFill>
                  <a:srgbClr val="94c600"/>
                </a:solidFill>
                <a:latin typeface="Century Gothic"/>
              </a:rPr>
              <a:t> -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647640" y="2168640"/>
          <a:ext cx="7848720" cy="4047840"/>
        </p:xfrm>
        <a:graphic>
          <a:graphicData uri="http://schemas.openxmlformats.org/drawingml/2006/table">
            <a:tbl>
              <a:tblPr/>
              <a:tblGrid>
                <a:gridCol w="1733760"/>
                <a:gridCol w="2190600"/>
                <a:gridCol w="3924360"/>
              </a:tblGrid>
              <a:tr h="3715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ачунање дефицита воде и 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Течности у дехидрациј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ефицит вод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% </a:t>
                      </a:r>
                      <a:r>
                        <a:rPr b="0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ехидрације </a:t>
                      </a:r>
                      <a:r>
                        <a:rPr b="0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x 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Нормализовати ИВ волум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50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ефицит </a:t>
                      </a:r>
                      <a:r>
                        <a:rPr b="0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ефицит воде </a:t>
                      </a:r>
                      <a:r>
                        <a:rPr b="0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x 80 mmol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20 mL/kg </a:t>
                      </a:r>
                      <a:r>
                        <a:rPr b="0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ФР за </a:t>
                      </a:r>
                      <a:r>
                        <a:rPr b="0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20 min, </a:t>
                      </a:r>
                      <a:r>
                        <a:rPr b="0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онављати до нормализације волум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ефицит </a:t>
                      </a:r>
                      <a:r>
                        <a:rPr b="0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ефицит воде </a:t>
                      </a:r>
                      <a:r>
                        <a:rPr b="0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x 30 mmol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Израчунати потребну воду за </a:t>
                      </a:r>
                      <a:r>
                        <a:rPr b="1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24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невне потребе + дефицит вод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Израчунати електролите за </a:t>
                      </a:r>
                      <a:r>
                        <a:rPr b="1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24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невне потребе + дефицит </a:t>
                      </a:r>
                      <a:r>
                        <a:rPr b="0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Na i 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4116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оловину дати у првих </a:t>
                      </a:r>
                      <a:r>
                        <a:rPr b="1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8h (-</a:t>
                      </a:r>
                      <a:r>
                        <a:rPr b="1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болуси</a:t>
                      </a:r>
                      <a:r>
                        <a:rPr b="1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), </a:t>
                      </a:r>
                      <a:r>
                        <a:rPr b="1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остатак за </a:t>
                      </a:r>
                      <a:r>
                        <a:rPr b="1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16h, </a:t>
                      </a:r>
                      <a:r>
                        <a:rPr b="1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нове губитке надокнадити кад се јав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18920" y="1026720"/>
            <a:ext cx="702468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Терапиј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онатр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4360" y="1952640"/>
            <a:ext cx="7812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3e3d2d"/>
                </a:solidFill>
                <a:uFillTx/>
                <a:latin typeface="Century Gothic"/>
              </a:rPr>
              <a:t>Еуволемијска</a:t>
            </a:r>
            <a:r>
              <a:rPr b="0" lang="sr-Latn-CS" sz="24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400" spc="-1" strike="noStrike" u="sng">
                <a:solidFill>
                  <a:srgbClr val="3e3d2d"/>
                </a:solidFill>
                <a:uFillTx/>
                <a:latin typeface="Century Gothic"/>
              </a:rPr>
              <a:t>хипонатрем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тој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иша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лаг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стрик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нос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шк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мптом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де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озг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сле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нтоксика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о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ерто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aC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ронич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натрем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греш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створе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МФ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деквата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но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лектролит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ормонс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рап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нсуфицијен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дбубрег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тироидизм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АД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стрик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нос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но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&lt;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изиолошк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убиц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;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уросемид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65280" y="1026720"/>
            <a:ext cx="785016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Arial"/>
              </a:rPr>
              <a:t>Поремећаји</a:t>
            </a:r>
            <a:r>
              <a:rPr b="0" lang="sr-Latn-CS" sz="36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Arial"/>
              </a:rPr>
              <a:t>хомеостазе</a:t>
            </a:r>
            <a:r>
              <a:rPr b="0" lang="sr-Latn-CS" sz="36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Arial"/>
              </a:rPr>
              <a:t>калијума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7956360" cy="44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јобилниј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нтрацелулар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атјон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98%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купн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лаз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нтрацелуларно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кстрацелулар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3.5-5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завис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Унос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Дистрибуци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змеђ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одељак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Екскреци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Основн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функци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Разли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змеђ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ЕЦ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Ц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највиш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одређу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мирујућ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потенцијал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мембране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Ц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утич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ћелијск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ра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деоб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синтез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ДН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протеи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ензимск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активно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регулаци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запремин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ћелијск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течнос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..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55280" y="1027080"/>
            <a:ext cx="702468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Дистрибуциј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К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у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организму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91640" y="1988640"/>
            <a:ext cx="7596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ц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ржава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зитива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илан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ј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шт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иш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не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г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шт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луч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р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треба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оматск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с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ећин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нет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рзопреузм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ишић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тр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с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ритроци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тата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луч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убрег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6-8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злик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међ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Ц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Ц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рђа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умп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тицаје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техолами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нсули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лдостеро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ирокси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лукокортикоид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ормо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с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ти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C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лазм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ежб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H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Ц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..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ДИСТРИБУЦИЈА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КАЛИЈУМА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У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ОРГАНИЗМУ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667" name=""/>
          <p:cNvGraphicFramePr/>
          <p:nvPr/>
        </p:nvGraphicFramePr>
        <p:xfrm>
          <a:off x="685800" y="1981080"/>
          <a:ext cx="7772400" cy="2125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% </a:t>
                      </a: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укупног 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трацелулар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сти и везивно тки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рансцелуларни и интерстицијс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лазм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45680" y="799920"/>
            <a:ext cx="817884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Регулациј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калијум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код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новорођенчет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и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промене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у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бубрегу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током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сазревања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18920" y="1988640"/>
            <a:ext cx="759780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ктив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ранспорту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јк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етус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&gt; 5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/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оворођенчад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тој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лирен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ајчино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лек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0.5-0.6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gt;1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гзоге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птереће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лијумо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дстич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лучив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рзино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вазилаз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његов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илтраци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→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убулс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крециј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зев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бзир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лучу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г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тар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т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→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ећ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изи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еркалемиј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/>
          </p:nvPr>
        </p:nvSpPr>
        <p:spPr>
          <a:xfrm>
            <a:off x="647640" y="836640"/>
            <a:ext cx="7812000" cy="55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620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ОКСИМАЛ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УБУЛ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рет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лију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ењ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начај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зрастом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ЕНЛЕО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ЕТЉ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тнатал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ећа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паците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апсорпци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65%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РТИКАЛ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АБИР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НАЛИЋ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лаб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лучу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о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ећ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рој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ОМ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нал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13800" indent="-26172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-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-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ТПа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ео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ктив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→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абир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аналић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чува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Н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13800" indent="-26172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акс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анал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авља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тарије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већава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лучив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тимулиса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токо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убулск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ечности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13800" indent="-26172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абир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аналић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релатив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резистент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лдостеро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реднос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лдостеро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иш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г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раслих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99640" y="907920"/>
            <a:ext cx="7417080" cy="99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Клиничк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процен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излучивањ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К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преко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бубрега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1640" y="2096640"/>
            <a:ext cx="77756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Фракцио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кскрец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алију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Latn-RS" sz="2200" spc="-1" strike="noStrike">
                <a:solidFill>
                  <a:srgbClr val="3e3d2d"/>
                </a:solidFill>
                <a:latin typeface="Century Gothic"/>
              </a:rPr>
              <a:t>FE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нос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филтриран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лучен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раже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центи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{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(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реатинин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лазм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 / (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лазм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реатинин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}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x 100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ормалн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к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10%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Хипокалемиј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због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пољашњих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зрок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&lt; 7%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омогра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штеће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убреж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функциј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ранстубулск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алијумск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радијен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TTKG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(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/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лазм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 x (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смолално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лазм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/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смолално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ормл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8-9; &gt;11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птерећенњ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алијумо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; &lt;5-7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еркалем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казу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мањен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креци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3" name="Text Box 4"/>
          <p:cNvSpPr/>
          <p:nvPr/>
        </p:nvSpPr>
        <p:spPr>
          <a:xfrm>
            <a:off x="108000" y="6308640"/>
            <a:ext cx="8964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entury Gothic"/>
              </a:rPr>
              <a:t>ТТ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KG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entury Gothic"/>
              </a:rPr>
              <a:t>важи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entury Gothic"/>
              </a:rPr>
              <a:t>када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entury Gothic"/>
              </a:rPr>
              <a:t>је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entury Gothic"/>
              </a:rPr>
              <a:t>осмолалност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entury Gothic"/>
              </a:rPr>
              <a:t>урина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entury Gothic"/>
              </a:rPr>
              <a:t>већа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entury Gothic"/>
              </a:rPr>
              <a:t>од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entury Gothic"/>
              </a:rPr>
              <a:t>плазмине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entury Gothic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[</a:t>
            </a:r>
            <a:r>
              <a:rPr b="0" lang="sr-R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]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урину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&gt;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82760" y="609480"/>
            <a:ext cx="821520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94c600"/>
                </a:solidFill>
                <a:latin typeface="Century Gothic"/>
              </a:rPr>
              <a:t>Етиологија</a:t>
            </a:r>
            <a:r>
              <a:rPr b="1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94c600"/>
                </a:solidFill>
                <a:latin typeface="Century Gothic"/>
              </a:rPr>
              <a:t>поремећаја</a:t>
            </a:r>
            <a:r>
              <a:rPr b="1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94c600"/>
                </a:solidFill>
                <a:latin typeface="Century Gothic"/>
              </a:rPr>
              <a:t>промета</a:t>
            </a:r>
            <a:r>
              <a:rPr b="1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94c600"/>
                </a:solidFill>
                <a:latin typeface="Century Gothic"/>
              </a:rPr>
              <a:t>к</a:t>
            </a:r>
            <a:r>
              <a:rPr b="1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94c600"/>
                </a:solidFill>
                <a:latin typeface="Century Gothic"/>
              </a:rPr>
              <a:t>у</a:t>
            </a:r>
            <a:r>
              <a:rPr b="1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94c600"/>
                </a:solidFill>
                <a:latin typeface="Century Gothic"/>
              </a:rPr>
              <a:t>плазми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685800" y="1981080"/>
          <a:ext cx="7772400" cy="41911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Хипокалемија испод 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4 mM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Хиперкалемија изнад 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 mM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ГИТ узроц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суфицијенција бубрег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кутни гастроентероколитис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суфицијенција надбубрег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Ацидобазни поремећаји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ипоалдостеронизам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таболичка или респираторна алкалоз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золован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Ренални узроц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сеуд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ремећај транспорта у тубулим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кутна хемолиз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Ендокрини узроц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екови 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(Aldakton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ипералдостеронизам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цидоза (метаб. или респир.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Лекови 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Lasiks, Insulin, Ventolin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Јатрогени узроци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042560" y="836640"/>
            <a:ext cx="702468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Хипокалемија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19280" y="1807920"/>
            <a:ext cx="7813440" cy="10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вак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спод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3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казуј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достај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200-400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купног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рганизм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драсл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!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зроц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хипокалемиј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863640" y="2816280"/>
          <a:ext cx="7669080" cy="3600360"/>
        </p:xfrm>
        <a:graphic>
          <a:graphicData uri="http://schemas.openxmlformats.org/drawingml/2006/table">
            <a:tbl>
              <a:tblPr/>
              <a:tblGrid>
                <a:gridCol w="1765440"/>
                <a:gridCol w="5903640"/>
              </a:tblGrid>
              <a:tr h="585000">
                <a:tc>
                  <a:txBody>
                    <a:bodyPr lIns="18000" rIns="18000" tIns="18000" bIns="18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Smanjen u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Ishrana bogata ugljenim hidratima i tečnim proteinima, parenteralni unos teč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3640">
                <a:tc>
                  <a:txBody>
                    <a:bodyPr lIns="18000" rIns="18000" tIns="18000" bIns="18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Redistribuci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Lažna hipokalemija, aktivacija simpatikusa, insulin, povećana proizvodnja eritrocita, hipokalemijska periodična paraliza, inhibicija pasivnog izlaska K (trovanje barijumom), hipoterm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1840">
                <a:tc>
                  <a:txBody>
                    <a:bodyPr lIns="18000" rIns="18000" tIns="18000" bIns="18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GI gubi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Gubitak GI sekreta iz bolo kog razlo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9320">
                <a:tc>
                  <a:txBody>
                    <a:bodyPr lIns="18000" rIns="18000" tIns="18000" bIns="18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Gubici urin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Diuretici, poliurija, metabolička alkaloza i acidoza, hiperaldosteronizam, amfotericin B, Barterov sy,  Gitelmanov sy, Lidlov sy, deficit hl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18000" rIns="18000" tIns="18000" bIns="18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Preko zno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Intenzivno vežbanje, cistična fibro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7840">
                <a:tc>
                  <a:txBody>
                    <a:bodyPr lIns="18000" rIns="18000" tIns="18000" bIns="18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Dijali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Metabolička acidoza istiskuje K iz ćel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647640" y="1295280"/>
            <a:ext cx="7812000" cy="49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ФИЗИОЛОШКИ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ГУБИТАК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ОДОЈЧЕТ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З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1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h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Н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СВАКИ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kg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ТМ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ГУБИ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1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L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91640" y="764640"/>
            <a:ext cx="70246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Симптоми</a:t>
            </a:r>
            <a:r>
              <a:rPr b="0" lang="sr-Latn-CS" sz="32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хипокал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26920" y="1591920"/>
            <a:ext cx="766944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алпита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лабос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рчев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ишић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арали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арестез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твор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учни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раћ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лиур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октур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лидипс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сихо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лирију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алуцина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пресиј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калем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3240" indent="-27000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лаб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пособно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нцентровањ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3240" indent="-27000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већав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изводњ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Х</a:t>
            </a:r>
            <a:r>
              <a:rPr b="0" lang="sr-Latn-CS" sz="2200" spc="-1" strike="noStrike" baseline="-25000">
                <a:solidFill>
                  <a:srgbClr val="3e3d2d"/>
                </a:solidFill>
                <a:latin typeface="Century Gothic"/>
              </a:rPr>
              <a:t>3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убрези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купн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креци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иселин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3240" indent="-27000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јачав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реабсорпци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ксимални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убулим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3240" indent="-27000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азив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окалемијск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фропатију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718920" y="1026720"/>
            <a:ext cx="702468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Дијагноза</a:t>
            </a:r>
            <a:r>
              <a:rPr b="0" lang="sr-Latn-CS" sz="32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хипокал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7848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ринар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говор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[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К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]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урин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5-15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mmol/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већ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вреднос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усле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губит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пре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бубрег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Метаболич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ацидо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+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смање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злучив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→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губита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з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нижих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парт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ГИ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-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Метаболич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ацидо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+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повећа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злучив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→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дијабетич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кетоацидо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проксимал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РТ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тип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I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л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II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Метаболич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алкало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+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повећа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злучив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+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ниж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л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нормала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Т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→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повраћ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диуретиц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Бартеров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л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Гителманов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с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y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42600" y="944640"/>
            <a:ext cx="7024680" cy="63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Терапиј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окал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719280" y="1952280"/>
            <a:ext cx="77054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ткр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леч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снов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ремећај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ригова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тањ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пас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живо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ацијент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докнад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авету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чета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докнад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lt; 3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симптоматских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lt; 3.5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симптоматских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ертензијом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рал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докнад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схра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ашков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1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g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адрж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0-13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 1-4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kg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2-4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озе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мањ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убитк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иуретиц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ј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штед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мањ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нос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мбинова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леков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ј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штед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ни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ј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штед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4000" y="1026720"/>
            <a:ext cx="702468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Терапиј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окал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719280" y="2096640"/>
            <a:ext cx="7705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арентералн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надокнад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ад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ниј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могућ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ентералн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ад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остој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линичк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манифестациј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&gt;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Уобичајен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доз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20-40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mmol KCL/L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3-4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mmol/kg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/24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h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Највећ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онц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40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раствора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1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mL 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7.4%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KCl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садрж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1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mol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Брзином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0.5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mmol/kg/h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(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ЕКГ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!)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 u="sng">
                <a:solidFill>
                  <a:srgbClr val="3e3d2d"/>
                </a:solidFill>
                <a:uFillTx/>
                <a:latin typeface="Century Gothic"/>
              </a:rPr>
              <a:t>Пратит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ниво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линичк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знак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бубрежну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функцију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 u="sng">
                <a:solidFill>
                  <a:srgbClr val="3e3d2d"/>
                </a:solidFill>
                <a:uFillTx/>
                <a:latin typeface="Century Gothic"/>
              </a:rPr>
              <a:t>Имати</a:t>
            </a:r>
            <a:r>
              <a:rPr b="0" lang="sr-Latn-CS" sz="21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100" spc="-1" strike="noStrike" u="sng">
                <a:solidFill>
                  <a:srgbClr val="3e3d2d"/>
                </a:solidFill>
                <a:uFillTx/>
                <a:latin typeface="Century Gothic"/>
              </a:rPr>
              <a:t>у</a:t>
            </a:r>
            <a:r>
              <a:rPr b="0" lang="sr-Latn-CS" sz="21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100" spc="-1" strike="noStrike" u="sng">
                <a:solidFill>
                  <a:srgbClr val="3e3d2d"/>
                </a:solidFill>
                <a:uFillTx/>
                <a:latin typeface="Century Gothic"/>
              </a:rPr>
              <a:t>виду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редистрибуцију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ратећ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губитке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63280" y="907560"/>
            <a:ext cx="702468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8000"/>
                </a:solidFill>
                <a:latin typeface="Century Gothic"/>
              </a:rPr>
              <a:t>Случај</a:t>
            </a:r>
            <a:r>
              <a:rPr b="0" lang="sr-Latn-CS" sz="3600" spc="-1" strike="noStrike">
                <a:solidFill>
                  <a:srgbClr val="008000"/>
                </a:solidFill>
                <a:latin typeface="Century Gothic"/>
              </a:rPr>
              <a:t> ???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19280" y="1968480"/>
            <a:ext cx="7905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ча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тар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5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оди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олаз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б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ол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огам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намне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егоб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чел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коли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ма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иск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фебрилно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коли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ретких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толиц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и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враћа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че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рис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ош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од.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асни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раћ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л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и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бил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окр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раж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лан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рану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татус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фебрила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ез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исморфиза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80/53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Hg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ф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92/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in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пе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ишић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тколениц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Лаборатор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рв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2.5,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HC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</a:t>
            </a:r>
            <a:r>
              <a:rPr b="0" lang="sr-Latn-CS" sz="2000" spc="-1" strike="noStrike" baseline="-25000">
                <a:solidFill>
                  <a:srgbClr val="3e3d2d"/>
                </a:solidFill>
                <a:latin typeface="Century Gothic"/>
              </a:rPr>
              <a:t>3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29,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g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1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ормалан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реатинин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C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P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рин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м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рв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ротеин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SG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1.005, 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Ca/Cr 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0.01 (0.1-0.28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ормалн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зраст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87" dur="1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4c600"/>
                                      </p:to>
                                    </p:animClr>
                                    <p:animClr clrSpc="rgb">
                                      <p:cBhvr>
                                        <p:cTn id="88" dur="1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4c600"/>
                                      </p:to>
                                    </p:animClr>
                                    <p:set>
                                      <p:cBhvr>
                                        <p:cTn id="89" dur="1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/>
          </p:nvPr>
        </p:nvSpPr>
        <p:spPr>
          <a:xfrm>
            <a:off x="701280" y="1055520"/>
            <a:ext cx="765036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лидипс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+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лиур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+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калем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+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етаболич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цидо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+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магнезием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+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калциур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казу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ителманов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ндром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астроинтестинал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ремећај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горша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калеми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магнезиемиј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калциур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злику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вај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артеров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ндро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зрас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те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тављањ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ијагноз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94c600"/>
                </a:solidFill>
                <a:latin typeface="Century Gothic"/>
              </a:rPr>
              <a:t>Хиперкалемија</a:t>
            </a:r>
            <a:r>
              <a:rPr b="0" lang="sr-Latn-CS" sz="40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042920" y="1968480"/>
            <a:ext cx="750888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узет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т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р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ормал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ћелијск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убреж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еханизм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пречава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начај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већ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нц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%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оспитализован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ацијена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начајн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еркалемиј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тепе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ећав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овод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калијумске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адаптације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р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лимина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убрежни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анбубрежни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еханизмим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ултифакторијал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тиолог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јчешћ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ремећај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убреж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нк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леков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18920" y="873000"/>
            <a:ext cx="7024680" cy="60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Последице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еркал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64920" y="1530000"/>
            <a:ext cx="799596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ксцитабил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ки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ремећај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провођењ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исо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алас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краће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Q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i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в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мен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К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-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ти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дуже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Ri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Q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RS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т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ста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алас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Q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RS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шир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уб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ипича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бли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ти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морс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фибрилац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стој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во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опринос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ремећај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иво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ругих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лектролит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ст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К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мен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ста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различити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нц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еш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ишић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лабо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арали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бич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оњих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кстрмитет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иф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Guillain-Baré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sy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убре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мању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пособно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лучивањ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исел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цидоз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Дијагноз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еркал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738360" y="2312640"/>
            <a:ext cx="78501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мптом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бич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авља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&gt; 7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рзо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кок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спита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драци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тој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убрежн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бољењ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реди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н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лдостеро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ТК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G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в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стов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ормал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начајн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штећењ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убреж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унк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лектив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фек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кре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ип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47280" y="872640"/>
            <a:ext cx="702468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Узроци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еркалемије</a:t>
            </a:r>
            <a:r>
              <a:rPr b="0" lang="sr-Latn-CS" sz="40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614520" y="1981080"/>
          <a:ext cx="7918200" cy="4389480"/>
        </p:xfrm>
        <a:graphic>
          <a:graphicData uri="http://schemas.openxmlformats.org/drawingml/2006/table">
            <a:tbl>
              <a:tblPr/>
              <a:tblGrid>
                <a:gridCol w="2552400"/>
                <a:gridCol w="536580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Redistribucija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Pseudohiperkalemija (artefakt), nekroza tkiva, sindrom lize tumora, hipertonicitet seruma, trovanje bufadienolidom, fluor, sukcinil-ho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Povećan unos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Transfuzije krvi, KCl za per os, sportska pića, preparati alternativne medicine, p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283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Smanjeno izlučivanje K preko bubre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Nesteroidni antiinflamatorni lekovi, ACE inhibitori, diuretici koji štede kalijum, trimetoprim i pentamidin (slični amiloridu), heparin (smanjuje sintezu aldosterona), inhibitori kalcineurina (takrolimus; ciklosporin A smanjuje sekreciju aldosterona i osetljivost na aldosteron), KAH, pseudohipoaldosteronizam tip I i II, hipoaldosteronizam, distalna RTA, hiporeninemijski hipoaldosteronizam, prematurit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Century Gothic"/>
              </a:rPr>
              <a:t>ОСМОЛАЛНОСТ</a:t>
            </a:r>
            <a:r>
              <a:rPr b="1" lang="sl-SI" sz="26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sr-RS" sz="2600" spc="-1" strike="noStrike">
                <a:solidFill>
                  <a:srgbClr val="000000"/>
                </a:solidFill>
                <a:latin typeface="Century Gothic"/>
              </a:rPr>
              <a:t>ИЦТ</a:t>
            </a:r>
            <a:r>
              <a:rPr b="1" lang="sl-SI" sz="26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lang="sr-RS" sz="2600" spc="-1" strike="noStrike">
                <a:solidFill>
                  <a:srgbClr val="000000"/>
                </a:solidFill>
                <a:latin typeface="Century Gothic"/>
              </a:rPr>
              <a:t>ЕЦТ</a:t>
            </a:r>
            <a:r>
              <a:rPr b="1" lang="sl-SI" sz="2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9" name="Text Box 3"/>
          <p:cNvSpPr/>
          <p:nvPr/>
        </p:nvSpPr>
        <p:spPr>
          <a:xfrm>
            <a:off x="1637280" y="2308320"/>
            <a:ext cx="6630120" cy="350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ОСМОТСКИ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ЕФЕКА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СУПСТАНЦЕ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РАСТВОР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ЗАВИСИ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САМО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БРОЈ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РАСТВОРЕНИХ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ЧЕСТИ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ol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број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молекул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01280" y="872640"/>
            <a:ext cx="702468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Терапиј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еркал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18760" y="1712880"/>
            <a:ext cx="8178840" cy="47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гентно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ерапи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вис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ме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К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-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≥ 6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ред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зрок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Јонограм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уре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реатинин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осмолалност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серум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КС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осмолалност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pH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реатинин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електролит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урину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lt; 6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схра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ал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иуретиц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≥ 6.5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ез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ме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К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-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оноизмењивачк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моле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gt;7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К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!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ешк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имптом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леч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мах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екину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нос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ерап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ростру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нтагониза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фекат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ћел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ембран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емешт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Ц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Ц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лиминац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иш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алију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рганизм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19120" y="944280"/>
            <a:ext cx="821520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Антагонизам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ефекат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К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н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ћел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.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мембрану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4000" y="2168640"/>
            <a:ext cx="755964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лцију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ирект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нтагониза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реполариш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ембран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;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лу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коли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инут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раткороч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;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ад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губ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алас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шир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Q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RS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;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лукона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l</a:t>
            </a:r>
            <a:r>
              <a:rPr b="0" lang="sr-Latn-CS" sz="2200" spc="-1" strike="noStrike" baseline="-25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ож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нов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сл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5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и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фект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82760" y="1026720"/>
            <a:ext cx="817848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94c600"/>
                </a:solidFill>
                <a:latin typeface="Century Gothic"/>
              </a:rPr>
              <a:t>Редистрибуција</a:t>
            </a:r>
            <a:r>
              <a:rPr b="0" lang="sr-Latn-CS" sz="2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94c600"/>
                </a:solidFill>
                <a:latin typeface="Century Gothic"/>
              </a:rPr>
              <a:t>К</a:t>
            </a:r>
            <a:r>
              <a:rPr b="0" lang="sr-Latn-CS" sz="2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94c600"/>
                </a:solidFill>
                <a:latin typeface="Century Gothic"/>
              </a:rPr>
              <a:t>у</a:t>
            </a:r>
            <a:r>
              <a:rPr b="0" lang="sr-Latn-CS" sz="2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94c600"/>
                </a:solidFill>
                <a:latin typeface="Century Gothic"/>
              </a:rPr>
              <a:t>интрацелуларни</a:t>
            </a:r>
            <a:r>
              <a:rPr b="0" lang="sr-Latn-CS" sz="2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94c600"/>
                </a:solidFill>
                <a:latin typeface="Century Gothic"/>
              </a:rPr>
              <a:t>простор</a:t>
            </a:r>
            <a:endParaRPr b="0" lang="en-US" sz="2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19280" y="1932120"/>
            <a:ext cx="7905600" cy="35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нсул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луко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фека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чи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5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ину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ста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-3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нижа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0.5-1.5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/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aHC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</a:t>
            </a:r>
            <a:r>
              <a:rPr b="0" lang="sr-Latn-CS" sz="2400" spc="-1" strike="noStrike" baseline="-25000">
                <a:solidFill>
                  <a:srgbClr val="3e3d2d"/>
                </a:solidFill>
                <a:latin typeface="Century Gothic"/>
              </a:rPr>
              <a:t>3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ам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болел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шк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ронич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олес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убрег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еркалемијо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цидозом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e3d2d"/>
                </a:solidFill>
                <a:latin typeface="Century Gothic"/>
              </a:rPr>
              <a:t>β</a:t>
            </a:r>
            <a:r>
              <a:rPr b="0" lang="sr-Latn-CS" sz="2400" spc="-1" strike="noStrike" baseline="-25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-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гонис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ећава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ктивнос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-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TP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з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нижава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0.5-1.5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/L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ксимал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фека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тиж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30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.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имено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18760" y="1026720"/>
            <a:ext cx="814212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Елиминациј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вишк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калијум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из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организма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74360" y="2077560"/>
            <a:ext cx="7777080" cy="40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иазид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иуретиц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енлеов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етљ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оноизмењивачк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мол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трију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листире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улфона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цреви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езу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лобађ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1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g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мол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езу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лобод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-2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 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фека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спољ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л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иш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ат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о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ко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-5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о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g/kg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оз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4-6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ијали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нзерватив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лече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сп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еркалем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ш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лобађа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елик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личи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штећен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ћелиј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63280" y="907560"/>
            <a:ext cx="702468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8000"/>
                </a:solidFill>
                <a:latin typeface="Century Gothic"/>
              </a:rPr>
              <a:t>Случај</a:t>
            </a:r>
            <a:r>
              <a:rPr b="0" lang="sr-Latn-CS" sz="3600" spc="-1" strike="noStrike">
                <a:solidFill>
                  <a:srgbClr val="008000"/>
                </a:solidFill>
                <a:latin typeface="Century Gothic"/>
              </a:rPr>
              <a:t> ???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719280" y="2168640"/>
            <a:ext cx="770544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Мушк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оворођенч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7.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ан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живота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намнез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3240" indent="-2700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в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утешн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лач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ритабилно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3240" indent="-2700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ој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з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охран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МФ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овраћ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акон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ећин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брок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млаз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м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мног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иш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мокрих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елен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г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г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шт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бил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ретходног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етет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Рођен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ермин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ТМ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3.3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kg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татус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2.8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МТ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лаб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развијен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ув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лузниц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лач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уз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рисутн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м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исморфизам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м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сп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рганомегалије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мож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змерит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омер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КС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б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.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.;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123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7.8,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HC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</a:t>
            </a:r>
            <a:r>
              <a:rPr b="0" lang="sr-Latn-CS" sz="2000" spc="-1" strike="noStrike" baseline="-25000">
                <a:solidFill>
                  <a:srgbClr val="3e3d2d"/>
                </a:solidFill>
                <a:latin typeface="Century Gothic"/>
              </a:rPr>
              <a:t>3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15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метаболичк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цидоза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100" dur="1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4c600"/>
                                      </p:to>
                                    </p:animClr>
                                    <p:animClr clrSpc="rgb">
                                      <p:cBhvr>
                                        <p:cTn id="101" dur="1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4c600"/>
                                      </p:to>
                                    </p:animClr>
                                    <p:set>
                                      <p:cBhvr>
                                        <p:cTn id="102" dur="1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/>
          </p:nvPr>
        </p:nvSpPr>
        <p:spPr>
          <a:xfrm>
            <a:off x="701640" y="1092240"/>
            <a:ext cx="788688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ласич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зента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убитко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ол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чета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мпто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ипича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дељ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живо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раћ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о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убрег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аће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лиуријо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з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звој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в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ражен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хидрациј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ив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лдостеро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иза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ста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еркалем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ив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ни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ипич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ишен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уплемента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ормо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о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могућа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бољш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линичкој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лиц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орал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предов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те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кринин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д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entury Gothic"/>
              </a:rPr>
              <a:t>Вода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41" name="Content Placeholder 2" descr=""/>
          <p:cNvPicPr/>
          <p:nvPr/>
        </p:nvPicPr>
        <p:blipFill>
          <a:blip r:embed="rId1"/>
          <a:stretch/>
        </p:blipFill>
        <p:spPr>
          <a:xfrm>
            <a:off x="993600" y="2316240"/>
            <a:ext cx="698040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26920" y="123300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entury Gothic"/>
              </a:rPr>
              <a:t>Улога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Century Gothic"/>
              </a:rPr>
              <a:t>воде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Century Gothic"/>
              </a:rPr>
              <a:t>организму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лужи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о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стварач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органск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рганск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териј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чествуј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ранспорту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асов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ранљивих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териј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спадних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одукат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етаболизм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чествуј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оцесим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рморегулациј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личин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и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створених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инералних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минералних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териј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ражав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илимолима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 (mM / mmol)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литар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течности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јчешћ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лазм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дан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М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ређен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упстанц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дстављ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њену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олекулску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су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mg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=mg/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олекулск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с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 indent="-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створен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честиц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зличитих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териј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спољавају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ређену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 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осмотску активност</a:t>
            </a: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натај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начин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утичу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процесе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дистрибуције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воде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организм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9840" indent="-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Осмотска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активност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зависи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броја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растворених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честица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одређеној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количини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воде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изражава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као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осмотски притисак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диниц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ер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морски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итисак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miliOsmol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 (mOsm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в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ој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створен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честиц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чин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купни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лумен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дног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литр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нд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створ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моларан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9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Century Gothic"/>
              </a:rPr>
              <a:t>Нормална осмоларност плазме = </a:t>
            </a:r>
            <a:r>
              <a:rPr b="1" lang="en-US" sz="3600" spc="-1" strike="noStrike">
                <a:solidFill>
                  <a:srgbClr val="3e3d2d"/>
                </a:solidFill>
                <a:latin typeface="Century Gothic"/>
              </a:rPr>
              <a:t>300mOsm/L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94c600"/>
                </a:solidFill>
                <a:latin typeface="Century Gothic"/>
              </a:rPr>
              <a:t>КРЕТАЊЕ</a:t>
            </a:r>
            <a:r>
              <a:rPr b="1" lang="sl-SI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94c600"/>
                </a:solidFill>
                <a:latin typeface="Century Gothic"/>
              </a:rPr>
              <a:t>ВОДЕ</a:t>
            </a:r>
            <a:r>
              <a:rPr b="1" lang="sl-SI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94c600"/>
                </a:solidFill>
                <a:latin typeface="Century Gothic"/>
              </a:rPr>
              <a:t>И</a:t>
            </a:r>
            <a:r>
              <a:rPr b="1" lang="sl-SI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94c600"/>
                </a:solidFill>
                <a:latin typeface="Century Gothic"/>
              </a:rPr>
              <a:t>ЧЕСТИЦА</a:t>
            </a:r>
            <a:r>
              <a:rPr b="1" lang="sl-SI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94c600"/>
                </a:solidFill>
                <a:latin typeface="Century Gothic"/>
              </a:rPr>
              <a:t>КРОЗ</a:t>
            </a:r>
            <a:r>
              <a:rPr b="1" lang="sl-SI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94c600"/>
                </a:solidFill>
                <a:latin typeface="Century Gothic"/>
              </a:rPr>
              <a:t>МЕМБРАНЕ</a:t>
            </a:r>
            <a:r>
              <a:rPr b="1" lang="sl-SI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1882800" y="3130560"/>
            <a:ext cx="5504040" cy="204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ДИФУЗИЈ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ОЛАКШАН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ДИФУЗИЈ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ВЕЗАНИ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ТРАНСПОРТ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АКТИВНИ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ТРАНСПОР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94c600"/>
                </a:solidFill>
                <a:latin typeface="Century Gothic"/>
              </a:rPr>
              <a:t>РЕГУЛАЦИЈА</a:t>
            </a:r>
            <a:r>
              <a:rPr b="1" lang="sl-SI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94c600"/>
                </a:solidFill>
                <a:latin typeface="Century Gothic"/>
              </a:rPr>
              <a:t>МЕТАБОЛИЗМА</a:t>
            </a:r>
            <a:r>
              <a:rPr b="1" lang="sl-SI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94c600"/>
                </a:solidFill>
                <a:latin typeface="Century Gothic"/>
              </a:rPr>
              <a:t>ВОДЕ</a:t>
            </a:r>
            <a:r>
              <a:rPr b="1" lang="sl-SI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94c600"/>
                </a:solidFill>
                <a:latin typeface="Century Gothic"/>
              </a:rPr>
              <a:t>И</a:t>
            </a:r>
            <a:r>
              <a:rPr b="1" lang="sl-SI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94c600"/>
                </a:solidFill>
                <a:latin typeface="Century Gothic"/>
              </a:rPr>
              <a:t>ЕЛЕКТРОЛИТА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24120" y="2077920"/>
            <a:ext cx="910656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АНТИДИУРЕТСКИ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ХОРМОН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DH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entury Gothic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ЖЕЂ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АЛДОСТЕРО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АТРИЈАЛНИ</a:t>
            </a:r>
            <a:r>
              <a:rPr b="1" lang="sr-Latn-C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НАТРИУРЕТСКИ</a:t>
            </a:r>
            <a:r>
              <a:rPr b="1" lang="sr-Latn-C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ПЕПТИД</a:t>
            </a:r>
            <a:r>
              <a:rPr b="1" lang="sr-Latn-CS" sz="3200" spc="-1" strike="noStrike">
                <a:solidFill>
                  <a:srgbClr val="000000"/>
                </a:solidFill>
                <a:latin typeface="Century Gothic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NP</a:t>
            </a:r>
            <a:r>
              <a:rPr b="1" lang="sr-Latn-CS" sz="32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7" descr=""/>
          <p:cNvPicPr/>
          <p:nvPr/>
        </p:nvPicPr>
        <p:blipFill>
          <a:blip r:embed="rId1"/>
          <a:stretch/>
        </p:blipFill>
        <p:spPr>
          <a:xfrm>
            <a:off x="1116000" y="584280"/>
            <a:ext cx="65754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2"/>
          <p:cNvSpPr/>
          <p:nvPr/>
        </p:nvSpPr>
        <p:spPr>
          <a:xfrm>
            <a:off x="336600" y="2054160"/>
            <a:ext cx="8756640" cy="411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еурохипофиз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ртеријск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азоконстрик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лав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егулато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злучивањ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од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убрези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већав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ропустљиво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абирн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уб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аналић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о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већав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еапсорпциј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од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мању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иурез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већав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смоларно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ури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ТИМУЛАНС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већ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с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лазм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мање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ци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олум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"/>
          <p:cNvSpPr/>
          <p:nvPr/>
        </p:nvSpPr>
        <p:spPr>
          <a:xfrm>
            <a:off x="857520" y="782640"/>
            <a:ext cx="74120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АНТИДИУРЕТСКИ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ХОРМОН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(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DH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)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3"/>
          <p:cNvSpPr/>
          <p:nvPr/>
        </p:nvSpPr>
        <p:spPr>
          <a:xfrm>
            <a:off x="526680" y="1981080"/>
            <a:ext cx="899712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субјективни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осећај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потребе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з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водом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делује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прециз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  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центар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хипоталамусу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супраоптичкој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региј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неурони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центр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су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ОСМОРЕЦЕПТОР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НАДРАЖАЈ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је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ћелијск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дехидрациј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(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Пораст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Na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ЕЦТ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излазак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воде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из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нервних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ћелиј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центр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з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же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5"/>
          <p:cNvSpPr/>
          <p:nvPr/>
        </p:nvSpPr>
        <p:spPr>
          <a:xfrm>
            <a:off x="112320" y="5072040"/>
            <a:ext cx="90576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entury Gothic"/>
              </a:rPr>
              <a:t>пораст</a:t>
            </a:r>
            <a:r>
              <a:rPr b="1" lang="sl-SI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entury Gothic"/>
              </a:rPr>
              <a:t>Ангиотензина</a:t>
            </a:r>
            <a:r>
              <a:rPr b="1" lang="sl-SI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II</a:t>
            </a:r>
            <a:r>
              <a:rPr b="1" lang="sl-SI" sz="20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lang="sr-RS" sz="2000" spc="-1" strike="noStrike">
                <a:solidFill>
                  <a:srgbClr val="000000"/>
                </a:solidFill>
                <a:latin typeface="Century Gothic"/>
              </a:rPr>
              <a:t>повећана</a:t>
            </a:r>
            <a:r>
              <a:rPr b="1" lang="sl-SI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entury Gothic"/>
              </a:rPr>
              <a:t>потреба</a:t>
            </a:r>
            <a:r>
              <a:rPr b="1" lang="sl-SI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entury Gothic"/>
              </a:rPr>
              <a:t>за</a:t>
            </a:r>
            <a:r>
              <a:rPr b="1" lang="sl-SI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entury Gothic"/>
              </a:rPr>
              <a:t>пијењем</a:t>
            </a:r>
            <a:r>
              <a:rPr b="1" lang="sl-SI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entury Gothic"/>
              </a:rPr>
              <a:t>воде</a:t>
            </a:r>
            <a:r>
              <a:rPr b="1" lang="sl-SI" sz="2000" spc="-1" strike="noStrike">
                <a:solidFill>
                  <a:srgbClr val="000000"/>
                </a:solidFill>
                <a:latin typeface="Century Gothic"/>
              </a:rPr>
              <a:t> 2-3 x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281520" y="5838840"/>
            <a:ext cx="8806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ПИЈЕЊЕМ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ВОДЕ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ЖЕЂ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СЕ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ГУБИ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ОДМАХ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ПРЕ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АПСОРП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3371400" y="781200"/>
            <a:ext cx="20430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ЖЕЂ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4c600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95 %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минералокортикоидне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активности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надбубрега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регулише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реапсорпцију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На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дисаталним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сабирним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каналићима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уз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истовремену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секрецију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К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sr-RS" sz="2400" spc="-1" strike="noStrike" u="sng">
                <a:solidFill>
                  <a:srgbClr val="000000"/>
                </a:solidFill>
                <a:uFillTx/>
                <a:latin typeface="Century Gothic"/>
              </a:rPr>
              <a:t>СТИМУЛАНС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Century Gothic"/>
              </a:rPr>
              <a:t>за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Century Gothic"/>
              </a:rPr>
              <a:t>лучење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Century Gothic"/>
              </a:rPr>
              <a:t>је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Century Gothic"/>
              </a:rPr>
              <a:t>пораст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Century Gothic"/>
              </a:rPr>
              <a:t>К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Century Gothic"/>
              </a:rPr>
              <a:t>у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Century Gothic"/>
              </a:rPr>
              <a:t>ЕЦТ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пораст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К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за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0,1-0,2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mmol/L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секреција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А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се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удвостручи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2848320" y="914400"/>
            <a:ext cx="31345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ALDOSTERON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934920" y="1858680"/>
            <a:ext cx="7274160" cy="44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270360">
              <a:spcBef>
                <a:spcPts val="601"/>
              </a:spcBef>
              <a:buClr>
                <a:srgbClr val="0000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Полипептидни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хормон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из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преткомора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срц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0000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Инхибира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секрецију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ренина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синтезу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алдостерон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0000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Појачава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JGF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екскрецију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N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0000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Премешта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течност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из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интраваскуларног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интерстицијски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одељак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0000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Инхибира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вазоконстрикцију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изазвану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ангиотензином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II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норадреналином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0000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мозгу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смањује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потребу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сољу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инхибира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ослобађање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ADH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3348000" y="1052640"/>
            <a:ext cx="23036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AN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212760" y="72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592200" y="1349280"/>
            <a:ext cx="7920000" cy="545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БОЛЕСТИ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ГИТ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гастроентеритис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интестинлна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опструкција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ХСП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волвулус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)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Century Gothic"/>
              </a:rPr>
              <a:t>           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РЕНАЛНИ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ГУБИЦИ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осмотска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диуреза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КАХ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диуретици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диабетес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инсипидус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ГУБИЦИ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КОЖОМ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И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ПЛУЋИМА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опекотине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знојење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бронхореја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велики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плеуларни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изливи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НАКУПЉАЊЕ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ТЕЧНОСТИ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СЕРОЗНИМ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ДУПЉАМА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И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ТКИВИМА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ИСКРВАВЉЕЊЕ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2494440" y="692280"/>
            <a:ext cx="439776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ХИПОВОЛЕМИЈА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55640" y="10267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94c600"/>
                </a:solidFill>
                <a:latin typeface="Arial"/>
              </a:rPr>
              <a:t>ХИПОВОЛЕМИЈА</a:t>
            </a:r>
            <a:r>
              <a:rPr b="1" lang="sr-Latn-CS" sz="3600" spc="-1" strike="noStrike">
                <a:solidFill>
                  <a:srgbClr val="94c600"/>
                </a:solidFill>
                <a:latin typeface="Arial"/>
              </a:rPr>
              <a:t> ≠ </a:t>
            </a:r>
            <a:r>
              <a:rPr b="1" lang="sr-RS" sz="3600" spc="-1" strike="noStrike">
                <a:solidFill>
                  <a:srgbClr val="94c600"/>
                </a:solidFill>
                <a:latin typeface="Arial"/>
              </a:rPr>
              <a:t>ДЕХИДРАЦИЈА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хиповолемији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соли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из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ЕЦФ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дехидрацији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из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ЕЦФ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често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хипернатриемија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42560" y="1197000"/>
            <a:ext cx="702468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Одговор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срца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хиповолемију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93240" y="2151000"/>
            <a:ext cx="730908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>
              <a:lnSpc>
                <a:spcPct val="9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Смањено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венско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уњењ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рецептор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з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реткомор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лућних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КС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симпатикус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селективн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вазоконстрикција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Даљ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смањен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минутн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волумен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барорецептор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каротидног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синус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аортног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лук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: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12400" indent="-226080">
              <a:lnSpc>
                <a:spcPct val="9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тонус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симпатикуса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3" marL="1112400" indent="-226080">
              <a:lnSpc>
                <a:spcPct val="9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RAA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3" marL="1112400" indent="-226080">
              <a:lnSpc>
                <a:spcPct val="9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ADH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5" descr=""/>
          <p:cNvPicPr/>
          <p:nvPr/>
        </p:nvPicPr>
        <p:blipFill>
          <a:blip r:embed="rId1"/>
          <a:stretch/>
        </p:blipFill>
        <p:spPr>
          <a:xfrm>
            <a:off x="2268360" y="907920"/>
            <a:ext cx="6229440" cy="554220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42560" y="584280"/>
            <a:ext cx="3457800" cy="19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Хемодинамски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одговор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након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активације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симпатикуса</a:t>
            </a:r>
            <a:endParaRPr b="0" lang="en-US" sz="30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95320" y="907920"/>
            <a:ext cx="7656480" cy="7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Одговор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бубрега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хиповолемију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7360" y="1822320"/>
            <a:ext cx="87631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3e3d2d"/>
                </a:solidFill>
                <a:latin typeface="Century Gothic"/>
              </a:rPr>
              <a:t>Смањено</a:t>
            </a:r>
            <a:r>
              <a:rPr b="1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3e3d2d"/>
                </a:solidFill>
                <a:latin typeface="Century Gothic"/>
              </a:rPr>
              <a:t>излучивање</a:t>
            </a:r>
            <a:r>
              <a:rPr b="1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3e3d2d"/>
                </a:solidFill>
                <a:latin typeface="Century Gothic"/>
              </a:rPr>
              <a:t>Na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lvl="1" marL="626760" indent="-26712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орадренал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нгиотенз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I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нстрик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ферент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ртериол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&gt; ↑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илтрацио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рак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JGF/BPP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 &gt; ↑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нц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отеи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нкотск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итис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ферентни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ртериола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еритубуларни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пилари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оксималн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убул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&gt; ↑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сорп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26760" indent="-26712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орадренал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нгиотенз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I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ећава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сорпци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оксимални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убули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лдостеро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абирни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налићим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26760" indent="-26712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триуре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азва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итиско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л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ећ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ази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кскреци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82400" y="836280"/>
            <a:ext cx="804996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Серумска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хиповолемији</a:t>
            </a:r>
            <a:endParaRPr b="0" lang="en-US" sz="3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72960" y="1700280"/>
            <a:ext cx="83980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вис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зро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оволеми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личин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губљеној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ечнос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личин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трију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ечнос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тој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докнад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идружених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тањ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докнад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реб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поче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0.9%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aC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истизањ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резултат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онограм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креторни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ијареја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адржај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рет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ењ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смотски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ијареја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уб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иш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мање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нц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фракцио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кскрец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ве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казу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мање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циркулишућ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луме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си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штећењ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ресорпци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убрезим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181080" y="2252520"/>
            <a:ext cx="871200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ЕЦТ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(2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Плазм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- 6%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Међућелијск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вод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- 1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Трансћелијск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вод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(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ГИТ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секрециј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цереброспинални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ликвор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плеуралн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перикардијалн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интраокуларн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синовијалн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течност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)  - 1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до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3%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2556000" y="4941720"/>
            <a:ext cx="38494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ИЦТ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(45%)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5"/>
          <p:cNvSpPr/>
          <p:nvPr/>
        </p:nvSpPr>
        <p:spPr>
          <a:xfrm>
            <a:off x="1752480" y="762120"/>
            <a:ext cx="620424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Century Gothic"/>
              </a:rPr>
              <a:t>ОДЕЉЦИ</a:t>
            </a:r>
            <a:r>
              <a:rPr b="1" lang="sl-SI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000" spc="-1" strike="noStrike">
                <a:solidFill>
                  <a:srgbClr val="000000"/>
                </a:solidFill>
                <a:latin typeface="Century Gothic"/>
              </a:rPr>
              <a:t>ТЕЛЕСНЕ</a:t>
            </a:r>
            <a:r>
              <a:rPr b="1" lang="sl-SI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000" spc="-1" strike="noStrike">
                <a:solidFill>
                  <a:srgbClr val="000000"/>
                </a:solidFill>
                <a:latin typeface="Century Gothic"/>
              </a:rPr>
              <a:t>ТЕЧНОСТИ</a:t>
            </a:r>
            <a:r>
              <a:rPr b="1" lang="sl-SI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94960" y="188640"/>
            <a:ext cx="72406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Класификац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хиповолемијск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оремећа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екскрециј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рином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592200" y="1566720"/>
          <a:ext cx="7848360" cy="4910400"/>
        </p:xfrm>
        <a:graphic>
          <a:graphicData uri="http://schemas.openxmlformats.org/drawingml/2006/table">
            <a:tbl>
              <a:tblPr/>
              <a:tblGrid>
                <a:gridCol w="3925800"/>
                <a:gridCol w="39225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98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Ниска конц. </a:t>
                      </a:r>
                      <a:r>
                        <a:rPr b="1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Na </a:t>
                      </a:r>
                      <a:r>
                        <a:rPr b="1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у урин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(&lt;10 mol/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f2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98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Нормална или повећана конц. </a:t>
                      </a:r>
                      <a:r>
                        <a:rPr b="1" lang="en-U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Na </a:t>
                      </a:r>
                      <a:r>
                        <a:rPr b="1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у урину </a:t>
                      </a:r>
                      <a:r>
                        <a:rPr b="1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(&gt;20 mol/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f278"/>
                    </a:solidFill>
                  </a:tcPr>
                </a:tc>
              </a:tr>
              <a:tr h="4015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овраћа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ијареј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Назогастрична аспир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Фистул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ГИТ крваре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Опекотин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Велика оштећења кож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Изложеност топло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Цистична фибро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Велике плеуралне ефуз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Губици течности у 3. прос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“</a:t>
                      </a:r>
                      <a:r>
                        <a:rPr b="1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Crush” </a:t>
                      </a: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овре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иуретиц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Осмотска диуре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ефицит минералокортикои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остопструктивна диуре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Неолигуријска </a:t>
                      </a:r>
                      <a:r>
                        <a:rPr b="1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A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Нефропатија са губитком со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Бикарбонатуриј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Кетонуриј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024680" cy="60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имптом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знац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хиповол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71280" y="907920"/>
          <a:ext cx="8964720" cy="5889600"/>
        </p:xfrm>
        <a:graphic>
          <a:graphicData uri="http://schemas.openxmlformats.org/drawingml/2006/table">
            <a:tbl>
              <a:tblPr/>
              <a:tblGrid>
                <a:gridCol w="4483080"/>
                <a:gridCol w="4481640"/>
              </a:tblGrid>
              <a:tr h="433440">
                <a:tc>
                  <a:txBody>
                    <a:bodyPr lIns="90000" rIns="90000" anchor="t">
                      <a:noAutofit/>
                    </a:bodyPr>
                    <a:p>
                      <a:pPr marL="69840"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2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Симптоми </a:t>
                      </a:r>
                      <a:r>
                        <a:rPr b="1" lang="sr-Latn-CS" sz="22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68200"/>
                      </a:solidFill>
                    </a:lnL>
                    <a:lnR w="13680">
                      <a:solidFill>
                        <a:srgbClr val="e68200"/>
                      </a:solidFill>
                    </a:lnR>
                    <a:lnT w="13680">
                      <a:solidFill>
                        <a:srgbClr val="e68200"/>
                      </a:solidFill>
                    </a:lnT>
                    <a:lnB w="13680">
                      <a:solidFill>
                        <a:srgbClr val="e68200"/>
                      </a:solidFill>
                    </a:lnB>
                    <a:solidFill>
                      <a:srgbClr val="caf27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69840"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2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Знаци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68200"/>
                      </a:solidFill>
                    </a:lnL>
                    <a:lnR w="13680">
                      <a:solidFill>
                        <a:srgbClr val="e68200"/>
                      </a:solidFill>
                    </a:lnR>
                    <a:lnT w="13680">
                      <a:solidFill>
                        <a:srgbClr val="e68200"/>
                      </a:solidFill>
                    </a:lnT>
                    <a:lnB w="13680">
                      <a:solidFill>
                        <a:srgbClr val="e68200"/>
                      </a:solidFill>
                    </a:lnB>
                    <a:solidFill>
                      <a:srgbClr val="caf278"/>
                    </a:solidFill>
                  </a:tcPr>
                </a:tc>
              </a:tr>
              <a:tr h="5456160"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Бол у трбух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Бол у груди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Смањен </a:t>
                      </a:r>
                      <a:r>
                        <a:rPr b="1" i="1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per os</a:t>
                      </a:r>
                      <a:r>
                        <a:rPr b="1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 </a:t>
                      </a: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ун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Смањено излучивање ур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ијареј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езоријентациј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Умо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ојачан осећај жеђ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Иритабилнос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Мишићна слаб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Вртоглавица у усправном положај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Жеља за сољу </a:t>
                      </a:r>
                      <a:r>
                        <a:rPr b="1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(</a:t>
                      </a: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римарна инсуфицијенција надбубрега</a:t>
                      </a:r>
                      <a:r>
                        <a:rPr b="1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Напад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овраћањ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e682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Губитак телесне мас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Ослабљен тургор кож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родужено капиларно пуње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Суве слузни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Ортостатска хипотенз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Упале о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Упале фонтане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Тахикардиј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Слаб пул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e682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904160" cy="7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400" spc="-1" strike="noStrike">
                <a:solidFill>
                  <a:srgbClr val="000000"/>
                </a:solidFill>
                <a:latin typeface="Arial"/>
              </a:rPr>
              <a:t>Постављање</a:t>
            </a:r>
            <a:r>
              <a:rPr b="0" lang="sr-Latn-C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400" spc="-1" strike="noStrike">
                <a:solidFill>
                  <a:srgbClr val="000000"/>
                </a:solidFill>
                <a:latin typeface="Arial"/>
              </a:rPr>
              <a:t>дијагнозе</a:t>
            </a:r>
            <a:r>
              <a:rPr b="0" lang="sr-Latn-C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400" spc="-1" strike="noStrike">
                <a:solidFill>
                  <a:srgbClr val="000000"/>
                </a:solidFill>
                <a:latin typeface="Arial"/>
              </a:rPr>
              <a:t>хиповолемије</a:t>
            </a:r>
            <a:endParaRPr b="0" lang="en-US" sz="3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129440" cy="8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намне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изикал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глед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Лабораторијск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нац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волем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684360" y="2565360"/>
          <a:ext cx="7775280" cy="3568680"/>
        </p:xfrm>
        <a:graphic>
          <a:graphicData uri="http://schemas.openxmlformats.org/drawingml/2006/table">
            <a:tbl>
              <a:tblPr/>
              <a:tblGrid>
                <a:gridCol w="3311280"/>
                <a:gridCol w="44640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Комплетна крвна сл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овишен хематокрит</a:t>
                      </a: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 (</a:t>
                      </a: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осим у случају крварења</a:t>
                      </a: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4840"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Биохемија серу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Na, K </a:t>
                      </a: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и бикарбонати могу бити снижени или повише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овишени албумини</a:t>
                      </a: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 (</a:t>
                      </a: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осим у нефротском синдрому</a:t>
                      </a: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Анализа ур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Висока </a:t>
                      </a: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SG </a:t>
                      </a: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и осмолално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Електролити у урин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Обично</a:t>
                      </a: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 Na &lt;20 mol/L (</a:t>
                      </a: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осим код губитка</a:t>
                      </a: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 Na </a:t>
                      </a: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реко бубрега</a:t>
                      </a: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Фракциона екскреција </a:t>
                      </a: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Na &lt;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76360" y="620280"/>
            <a:ext cx="334944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8000"/>
                </a:solidFill>
                <a:latin typeface="Century Gothic"/>
              </a:rPr>
              <a:t>Случај</a:t>
            </a:r>
            <a:r>
              <a:rPr b="0" lang="sr-Latn-CS" sz="3600" spc="-1" strike="noStrike">
                <a:solidFill>
                  <a:srgbClr val="008000"/>
                </a:solidFill>
                <a:latin typeface="Century Gothic"/>
              </a:rPr>
              <a:t> ???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2072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уш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т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тар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7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есец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ронич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убреж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олест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2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фебрил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враћ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лив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окри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7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0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JGF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50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L/min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/1.73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</a:t>
            </a:r>
            <a:r>
              <a:rPr b="0" lang="sr-Latn-CS" sz="2200" spc="-1" strike="noStrike" baseline="30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егле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фебрил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38.9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ºC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90/70,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f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20/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и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R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28/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in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9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лузниц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ув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ж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пет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ал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уз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25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3.7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HC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</a:t>
            </a:r>
            <a:r>
              <a:rPr b="0" lang="sr-Latn-CS" sz="2200" spc="-1" strike="noStrike" baseline="-25000">
                <a:solidFill>
                  <a:srgbClr val="3e3d2d"/>
                </a:solidFill>
                <a:latin typeface="Century Gothic"/>
              </a:rPr>
              <a:t>3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8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е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r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2.6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71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KKS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hgb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98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 g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Le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SG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.010,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H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7.0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теи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00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g/m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r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L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ето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лукоз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итр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зитивни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40" dur="1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4c600"/>
                                      </p:to>
                                    </p:animClr>
                                    <p:animClr clrSpc="rgb">
                                      <p:cBhvr>
                                        <p:cTn id="41" dur="1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4c600"/>
                                      </p:to>
                                    </p:animClr>
                                    <p:set>
                                      <p:cBhvr>
                                        <p:cTn id="42" dur="1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1042560" y="765000"/>
            <a:ext cx="720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3e3d2d"/>
                </a:solidFill>
                <a:latin typeface="Century Gothic"/>
              </a:rPr>
              <a:t>% </a:t>
            </a:r>
            <a:r>
              <a:rPr b="1" lang="sr-RS" sz="2800" spc="-1" strike="noStrike">
                <a:solidFill>
                  <a:srgbClr val="3e3d2d"/>
                </a:solidFill>
                <a:latin typeface="Century Gothic"/>
              </a:rPr>
              <a:t>дехидрациј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= 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р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)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осл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)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р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) x 100 .... </a:t>
            </a:r>
            <a:r>
              <a:rPr b="1" lang="sr-Latn-CS" sz="2800" spc="-1" strike="noStrike">
                <a:solidFill>
                  <a:srgbClr val="3e3d2d"/>
                </a:solidFill>
                <a:latin typeface="Century Gothic"/>
              </a:rPr>
              <a:t>10%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Асимптоматск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хипонатриемиј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огоршањ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бубрежн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функциј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анемиј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могућ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ТУ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отребн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течност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  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+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одржавањ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+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губиц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= 10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x 100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L/kg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= 1000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m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ржавањ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= 1000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m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куп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треб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чнос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2000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m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7777080" cy="47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-45720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независно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дефицит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течност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(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жељен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уочен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) x 0.6 x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(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) = 60 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mmol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1000 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mL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0.9% 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NaCl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м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154 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а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-457200">
              <a:lnSpc>
                <a:spcPct val="9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оловину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дат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8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h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остатак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16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h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2"/>
          <p:cNvSpPr/>
          <p:nvPr/>
        </p:nvSpPr>
        <p:spPr>
          <a:xfrm>
            <a:off x="641880" y="2276640"/>
            <a:ext cx="8012880" cy="3507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ОЈЧЕ</a:t>
            </a: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АРИЈЕ</a:t>
            </a: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ТЕ</a:t>
            </a: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АКА</a:t>
            </a: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sl-SI" sz="2400" spc="-1" strike="noStrike">
                <a:solidFill>
                  <a:srgbClr val="ffffff"/>
                </a:solidFill>
                <a:latin typeface="UniversalMath1 BT"/>
                <a:ea typeface="UniversalMath1 BT"/>
              </a:rPr>
              <a:t></a:t>
            </a: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5%               </a:t>
            </a:r>
            <a:r>
              <a:rPr b="1" lang="sl-SI" sz="2400" spc="-1" strike="noStrike">
                <a:solidFill>
                  <a:srgbClr val="ffffff"/>
                </a:solidFill>
                <a:latin typeface="UniversalMath1 BT"/>
                <a:ea typeface="UniversalMath1 BT"/>
              </a:rPr>
              <a:t></a:t>
            </a: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 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РЕДЊА</a:t>
            </a: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                5-10%           3-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ШКА</a:t>
            </a: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                   10-15%          6-9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ш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3"/>
          <p:cNvSpPr/>
          <p:nvPr/>
        </p:nvSpPr>
        <p:spPr>
          <a:xfrm>
            <a:off x="117360" y="836640"/>
            <a:ext cx="8923320" cy="100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АГНОСТИЧКИ</a:t>
            </a:r>
            <a:r>
              <a:rPr b="1" lang="sl-SI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ЦИ</a:t>
            </a:r>
            <a:r>
              <a:rPr b="1" lang="sl-SI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sr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ХИДРАЦИЈ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sr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l-SI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носу</a:t>
            </a:r>
            <a:r>
              <a:rPr b="1" lang="sl-SI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l-SI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убитак</a:t>
            </a:r>
            <a:r>
              <a:rPr b="1" lang="sl-SI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лесне</a:t>
            </a:r>
            <a:r>
              <a:rPr b="1" lang="sl-SI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е</a:t>
            </a:r>
            <a:r>
              <a:rPr b="1" lang="sl-SI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sl-SI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263520" y="6021360"/>
            <a:ext cx="854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f3311d"/>
                </a:solidFill>
                <a:latin typeface="Times New Roman"/>
              </a:rPr>
              <a:t>Пад</a:t>
            </a:r>
            <a:r>
              <a:rPr b="1" lang="en-US" sz="2200" spc="-1" strike="noStrike">
                <a:solidFill>
                  <a:srgbClr val="f3311d"/>
                </a:solidFill>
                <a:latin typeface="Times New Roman"/>
              </a:rPr>
              <a:t> </a:t>
            </a:r>
            <a:r>
              <a:rPr b="1" lang="sr-RS" sz="2200" spc="-1" strike="noStrike">
                <a:solidFill>
                  <a:srgbClr val="f3311d"/>
                </a:solidFill>
                <a:latin typeface="Times New Roman"/>
              </a:rPr>
              <a:t>ТА</a:t>
            </a:r>
            <a:r>
              <a:rPr b="1" lang="en-US" sz="2200" spc="-1" strike="noStrike">
                <a:solidFill>
                  <a:srgbClr val="f3311d"/>
                </a:solidFill>
                <a:latin typeface="Times New Roman"/>
              </a:rPr>
              <a:t> </a:t>
            </a:r>
            <a:r>
              <a:rPr b="1" lang="sr-RS" sz="2200" spc="-1" strike="noStrike">
                <a:solidFill>
                  <a:srgbClr val="f3311d"/>
                </a:solidFill>
                <a:latin typeface="Times New Roman"/>
              </a:rPr>
              <a:t>је</a:t>
            </a:r>
            <a:r>
              <a:rPr b="1" lang="sr-Latn-CS" sz="2200" spc="-1" strike="noStrike">
                <a:solidFill>
                  <a:srgbClr val="f3311d"/>
                </a:solidFill>
                <a:latin typeface="Times New Roman"/>
              </a:rPr>
              <a:t> </a:t>
            </a:r>
            <a:r>
              <a:rPr b="1" lang="sr-RS" sz="2200" spc="-1" strike="noStrike">
                <a:solidFill>
                  <a:srgbClr val="f3311d"/>
                </a:solidFill>
                <a:latin typeface="Times New Roman"/>
              </a:rPr>
              <a:t>касни</a:t>
            </a:r>
            <a:r>
              <a:rPr b="1" lang="sr-Latn-CS" sz="2200" spc="-1" strike="noStrike">
                <a:solidFill>
                  <a:srgbClr val="f3311d"/>
                </a:solidFill>
                <a:latin typeface="Times New Roman"/>
              </a:rPr>
              <a:t> </a:t>
            </a:r>
            <a:r>
              <a:rPr b="1" lang="sr-RS" sz="2200" spc="-1" strike="noStrike">
                <a:solidFill>
                  <a:srgbClr val="f3311d"/>
                </a:solidFill>
                <a:latin typeface="Times New Roman"/>
              </a:rPr>
              <a:t>знак</a:t>
            </a:r>
            <a:r>
              <a:rPr b="1" lang="sr-Latn-CS" sz="2200" spc="-1" strike="noStrike">
                <a:solidFill>
                  <a:srgbClr val="f3311d"/>
                </a:solidFill>
                <a:latin typeface="Times New Roman"/>
              </a:rPr>
              <a:t> </a:t>
            </a:r>
            <a:r>
              <a:rPr b="1" lang="sr-RS" sz="2200" spc="-1" strike="noStrike">
                <a:solidFill>
                  <a:srgbClr val="f3311d"/>
                </a:solidFill>
                <a:latin typeface="Times New Roman"/>
              </a:rPr>
              <a:t>шока</a:t>
            </a:r>
            <a:r>
              <a:rPr b="1" lang="sr-Latn-CS" sz="2200" spc="-1" strike="noStrike">
                <a:solidFill>
                  <a:srgbClr val="f3311d"/>
                </a:solidFill>
                <a:latin typeface="Times New Roman"/>
              </a:rPr>
              <a:t> </a:t>
            </a:r>
            <a:r>
              <a:rPr b="1" lang="sr-RS" sz="2200" spc="-1" strike="noStrike">
                <a:solidFill>
                  <a:srgbClr val="f3311d"/>
                </a:solidFill>
                <a:latin typeface="Times New Roman"/>
              </a:rPr>
              <a:t>код</a:t>
            </a:r>
            <a:r>
              <a:rPr b="1" lang="sr-Latn-CS" sz="2200" spc="-1" strike="noStrike">
                <a:solidFill>
                  <a:srgbClr val="f3311d"/>
                </a:solidFill>
                <a:latin typeface="Times New Roman"/>
              </a:rPr>
              <a:t> </a:t>
            </a:r>
            <a:r>
              <a:rPr b="1" lang="sr-RS" sz="2200" spc="-1" strike="noStrike">
                <a:solidFill>
                  <a:srgbClr val="f3311d"/>
                </a:solidFill>
                <a:latin typeface="Times New Roman"/>
              </a:rPr>
              <a:t>деце</a:t>
            </a:r>
            <a:r>
              <a:rPr b="1" lang="sr-Latn-CS" sz="2200" spc="-1" strike="noStrike">
                <a:solidFill>
                  <a:srgbClr val="f3311d"/>
                </a:solidFill>
                <a:latin typeface="Times New Roman"/>
              </a:rPr>
              <a:t> </a:t>
            </a:r>
            <a:r>
              <a:rPr b="1" lang="sr-RS" sz="2200" spc="-1" strike="noStrike">
                <a:solidFill>
                  <a:srgbClr val="f3311d"/>
                </a:solidFill>
                <a:latin typeface="Times New Roman"/>
              </a:rPr>
              <a:t>и</a:t>
            </a:r>
            <a:r>
              <a:rPr b="1" lang="sr-Latn-CS" sz="2200" spc="-1" strike="noStrike">
                <a:solidFill>
                  <a:srgbClr val="f3311d"/>
                </a:solidFill>
                <a:latin typeface="Times New Roman"/>
              </a:rPr>
              <a:t> </a:t>
            </a:r>
            <a:r>
              <a:rPr b="1" lang="sr-RS" sz="2200" spc="-1" strike="noStrike">
                <a:solidFill>
                  <a:srgbClr val="f3311d"/>
                </a:solidFill>
                <a:latin typeface="Times New Roman"/>
              </a:rPr>
              <a:t>захтева</a:t>
            </a:r>
            <a:r>
              <a:rPr b="1" lang="sr-Latn-CS" sz="2200" spc="-1" strike="noStrike">
                <a:solidFill>
                  <a:srgbClr val="f3311d"/>
                </a:solidFill>
                <a:latin typeface="Times New Roman"/>
              </a:rPr>
              <a:t> </a:t>
            </a:r>
            <a:r>
              <a:rPr b="1" lang="sr-RS" sz="2200" spc="-1" strike="noStrike">
                <a:solidFill>
                  <a:srgbClr val="f3311d"/>
                </a:solidFill>
                <a:latin typeface="Times New Roman"/>
              </a:rPr>
              <a:t>брзу</a:t>
            </a:r>
            <a:r>
              <a:rPr b="1" lang="sr-Latn-CS" sz="2200" spc="-1" strike="noStrike">
                <a:solidFill>
                  <a:srgbClr val="f3311d"/>
                </a:solidFill>
                <a:latin typeface="Times New Roman"/>
              </a:rPr>
              <a:t> </a:t>
            </a:r>
            <a:r>
              <a:rPr b="1" lang="sr-RS" sz="2200" spc="-1" strike="noStrike">
                <a:solidFill>
                  <a:srgbClr val="f3311d"/>
                </a:solidFill>
                <a:latin typeface="Times New Roman"/>
              </a:rPr>
              <a:t>терапиј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1" name=""/>
          <p:cNvGraphicFramePr/>
          <p:nvPr/>
        </p:nvGraphicFramePr>
        <p:xfrm>
          <a:off x="863640" y="944640"/>
          <a:ext cx="7272360" cy="4825800"/>
        </p:xfrm>
        <a:graphic>
          <a:graphicData uri="http://schemas.openxmlformats.org/drawingml/2006/table">
            <a:tbl>
              <a:tblPr/>
              <a:tblGrid>
                <a:gridCol w="1819080"/>
                <a:gridCol w="1819440"/>
                <a:gridCol w="1814400"/>
                <a:gridCol w="1819440"/>
              </a:tblGrid>
              <a:tr h="958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А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УМЕР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ТЕШ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616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УРГ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</a:t>
                      </a: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</a:t>
                      </a: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</a:t>
                      </a: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15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ОЈА КОЖ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лед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ледо сив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ив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ЛУЗОКОЖ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ако сув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в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јако сув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ФОНТАНЕ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ако упал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пал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јако упал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15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УЛ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ормала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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15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ИУРЕ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лигуриј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нуриј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42560" y="836640"/>
            <a:ext cx="7024680" cy="133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entury Gothic"/>
              </a:rPr>
              <a:t>Карактеристичан</a:t>
            </a:r>
            <a:r>
              <a:rPr b="0" lang="sr-Latn-C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entury Gothic"/>
              </a:rPr>
              <a:t>лабораторијски</a:t>
            </a:r>
            <a:r>
              <a:rPr b="0" lang="sr-Latn-C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entury Gothic"/>
              </a:rPr>
              <a:t>налаз</a:t>
            </a:r>
            <a:r>
              <a:rPr b="0" lang="sr-Latn-C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entury Gothic"/>
              </a:rPr>
              <a:t>код</a:t>
            </a:r>
            <a:r>
              <a:rPr b="0" lang="sr-Latn-C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entury Gothic"/>
              </a:rPr>
              <a:t>дехидрираног</a:t>
            </a:r>
            <a:r>
              <a:rPr b="0" lang="sr-Latn-C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entury Gothic"/>
              </a:rPr>
              <a:t>детета</a:t>
            </a:r>
            <a:r>
              <a:rPr b="0" lang="sr-Latn-C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entury Gothic"/>
              </a:rPr>
              <a:t>без</a:t>
            </a:r>
            <a:r>
              <a:rPr b="0" lang="sr-Latn-C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entury Gothic"/>
              </a:rPr>
              <a:t>претходног</a:t>
            </a:r>
            <a:r>
              <a:rPr b="0" lang="sr-Latn-C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entury Gothic"/>
              </a:rPr>
              <a:t>бубрежног</a:t>
            </a:r>
            <a:r>
              <a:rPr b="0" lang="sr-Latn-C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entury Gothic"/>
              </a:rPr>
              <a:t>поремећаја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732636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Висок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SG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урина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Релативно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овећањ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уре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односу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креатинин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Мал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концентрациј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урину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      (&lt; 15 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овишен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хематокрит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серумск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албумин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хемоконцентрациј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entury Gothic"/>
              </a:rPr>
              <a:t>Лабораторијске</a:t>
            </a:r>
            <a:r>
              <a:rPr b="0" lang="sr-Latn-C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entury Gothic"/>
              </a:rPr>
              <a:t>карактеристике</a:t>
            </a:r>
            <a:r>
              <a:rPr b="0" lang="sr-Latn-C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entury Gothic"/>
              </a:rPr>
              <a:t>дехидрације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647640" y="2324160"/>
          <a:ext cx="7848720" cy="3317760"/>
        </p:xfrm>
        <a:graphic>
          <a:graphicData uri="http://schemas.openxmlformats.org/drawingml/2006/table">
            <a:tbl>
              <a:tblPr/>
              <a:tblGrid>
                <a:gridCol w="1981440"/>
                <a:gridCol w="1979280"/>
                <a:gridCol w="1974960"/>
                <a:gridCol w="1913040"/>
              </a:tblGrid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ИЗОТОН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ХИПОТОН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ХИПЕРТОН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723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УБИТА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Cl = H</a:t>
                      </a:r>
                      <a:r>
                        <a:rPr b="1" lang="sr-Latn-C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Cl &gt; H</a:t>
                      </a:r>
                      <a:r>
                        <a:rPr b="1" lang="sr-Latn-C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Cl &lt; H</a:t>
                      </a:r>
                      <a:r>
                        <a:rPr b="1" lang="sr-Latn-C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1097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СМ. ПЛАЗМЕ </a:t>
                      </a: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</a:t>
                      </a: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sm/L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81-29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&lt; 28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&gt; 29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734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a (mmol/L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30-1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&lt; 1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&gt; 1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42560" y="985680"/>
            <a:ext cx="7024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25" name="Picture 4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552456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55480" y="1055160"/>
            <a:ext cx="825192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entury Gothic"/>
              </a:rPr>
              <a:t>Измене</a:t>
            </a:r>
            <a:r>
              <a:rPr b="0" lang="sr-Latn-C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entury Gothic"/>
              </a:rPr>
              <a:t>потребној</a:t>
            </a:r>
            <a:r>
              <a:rPr b="0" lang="sr-Latn-C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entury Gothic"/>
              </a:rPr>
              <a:t>количини</a:t>
            </a:r>
            <a:r>
              <a:rPr b="0" lang="sr-Latn-C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entury Gothic"/>
              </a:rPr>
              <a:t>течности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684360" y="2324160"/>
          <a:ext cx="7848360" cy="3230640"/>
        </p:xfrm>
        <a:graphic>
          <a:graphicData uri="http://schemas.openxmlformats.org/drawingml/2006/table">
            <a:tbl>
              <a:tblPr/>
              <a:tblGrid>
                <a:gridCol w="3924000"/>
                <a:gridCol w="392436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Фактор </a:t>
                      </a:r>
                      <a:r>
                        <a:rPr b="1" lang="sr-Latn-CS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требе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розница </a:t>
                      </a: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%/º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Хипервентилациј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10-60 mL/100 kc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Знојење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10-25 mL/100 kc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Хипертироидизам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Варијабилно</a:t>
                      </a:r>
                      <a:r>
                        <a:rPr b="0" lang="sr-Latn-CS" sz="22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: 25-5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109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Гастроинтестинални губици и болест бубрег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ратити и анлизирати излучене количине и прилагодити терапиј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10920" y="1026720"/>
            <a:ext cx="799308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82ba12"/>
                </a:solidFill>
                <a:latin typeface="Century Gothic"/>
              </a:rPr>
              <a:t>Електролитни</a:t>
            </a:r>
            <a:r>
              <a:rPr b="0" lang="sr-Latn-CS" sz="30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3000" spc="-1" strike="noStrike">
                <a:solidFill>
                  <a:srgbClr val="82ba12"/>
                </a:solidFill>
                <a:latin typeface="Century Gothic"/>
              </a:rPr>
              <a:t>састав</a:t>
            </a:r>
            <a:r>
              <a:rPr b="0" lang="sr-Latn-CS" sz="30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3000" spc="-1" strike="noStrike">
                <a:solidFill>
                  <a:srgbClr val="82ba12"/>
                </a:solidFill>
                <a:latin typeface="Century Gothic"/>
              </a:rPr>
              <a:t>телесних</a:t>
            </a:r>
            <a:r>
              <a:rPr b="0" lang="sr-Latn-CS" sz="30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3000" spc="-1" strike="noStrike">
                <a:solidFill>
                  <a:srgbClr val="82ba12"/>
                </a:solidFill>
                <a:latin typeface="Century Gothic"/>
              </a:rPr>
              <a:t>течности</a:t>
            </a:r>
            <a:endParaRPr b="0" lang="en-US" sz="3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539640" y="2324160"/>
          <a:ext cx="8064720" cy="2332080"/>
        </p:xfrm>
        <a:graphic>
          <a:graphicData uri="http://schemas.openxmlformats.org/drawingml/2006/table">
            <a:tbl>
              <a:tblPr/>
              <a:tblGrid>
                <a:gridCol w="2017800"/>
                <a:gridCol w="2014560"/>
                <a:gridCol w="2014560"/>
                <a:gridCol w="2017800"/>
              </a:tblGrid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a</a:t>
                      </a:r>
                      <a:r>
                        <a:rPr b="1" lang="sr-Latn-CS" sz="1800" spc="-1" strike="noStrike" baseline="30000">
                          <a:solidFill>
                            <a:srgbClr val="ffffff"/>
                          </a:solidFill>
                          <a:latin typeface="Century Gothic"/>
                        </a:rPr>
                        <a:t>+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(mmol/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K</a:t>
                      </a:r>
                      <a:r>
                        <a:rPr b="1" lang="sr-Latn-CS" sz="1800" spc="-1" strike="noStrike" baseline="30000">
                          <a:solidFill>
                            <a:srgbClr val="ffffff"/>
                          </a:solidFill>
                          <a:latin typeface="Century Gothic"/>
                        </a:rPr>
                        <a:t>+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(mmol/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CO</a:t>
                      </a:r>
                      <a:r>
                        <a:rPr b="1" lang="sr-Latn-CS" sz="1800" spc="-1" strike="noStrike" baseline="-25000">
                          <a:solidFill>
                            <a:srgbClr val="ffffff"/>
                          </a:solidFill>
                          <a:latin typeface="Century Gothic"/>
                        </a:rPr>
                        <a:t>3</a:t>
                      </a:r>
                      <a:r>
                        <a:rPr b="1" lang="sr-Latn-CS" sz="1800" spc="-1" strike="noStrike" baseline="30000">
                          <a:solidFill>
                            <a:srgbClr val="ffffff"/>
                          </a:solidFill>
                          <a:latin typeface="Century Gothic"/>
                        </a:rPr>
                        <a:t>-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(mmol/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41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ијареја </a:t>
                      </a: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-9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-8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Желудачни сок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-8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-2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41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анког црева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-14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-1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41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леостома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-13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-1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18760" y="1026720"/>
            <a:ext cx="8142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82ba12"/>
                </a:solidFill>
                <a:latin typeface="Century Gothic"/>
              </a:rPr>
              <a:t>Процењени</a:t>
            </a:r>
            <a:r>
              <a:rPr b="0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82ba12"/>
                </a:solidFill>
                <a:latin typeface="Century Gothic"/>
              </a:rPr>
              <a:t>дефицит</a:t>
            </a:r>
            <a:r>
              <a:rPr b="0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82ba12"/>
                </a:solidFill>
                <a:latin typeface="Century Gothic"/>
              </a:rPr>
              <a:t>воде</a:t>
            </a:r>
            <a:r>
              <a:rPr b="0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82ba12"/>
                </a:solidFill>
                <a:latin typeface="Century Gothic"/>
              </a:rPr>
              <a:t>и</a:t>
            </a:r>
            <a:r>
              <a:rPr b="0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82ba12"/>
                </a:solidFill>
                <a:latin typeface="Century Gothic"/>
              </a:rPr>
              <a:t>електролита</a:t>
            </a:r>
            <a:r>
              <a:rPr b="0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82ba12"/>
                </a:solidFill>
                <a:latin typeface="Century Gothic"/>
              </a:rPr>
              <a:t>у</a:t>
            </a:r>
            <a:r>
              <a:rPr b="0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82ba12"/>
                </a:solidFill>
                <a:latin typeface="Century Gothic"/>
              </a:rPr>
              <a:t>умереној</a:t>
            </a:r>
            <a:r>
              <a:rPr b="0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82ba12"/>
                </a:solidFill>
                <a:latin typeface="Century Gothic"/>
              </a:rPr>
              <a:t>до</a:t>
            </a:r>
            <a:r>
              <a:rPr b="0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82ba12"/>
                </a:solidFill>
                <a:latin typeface="Century Gothic"/>
              </a:rPr>
              <a:t>тешкој</a:t>
            </a:r>
            <a:r>
              <a:rPr b="0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82ba12"/>
                </a:solidFill>
                <a:latin typeface="Century Gothic"/>
              </a:rPr>
              <a:t>дехидрацији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250920" y="2946240"/>
          <a:ext cx="8640720" cy="2073600"/>
        </p:xfrm>
        <a:graphic>
          <a:graphicData uri="http://schemas.openxmlformats.org/drawingml/2006/table">
            <a:tbl>
              <a:tblPr/>
              <a:tblGrid>
                <a:gridCol w="1874880"/>
                <a:gridCol w="1579320"/>
                <a:gridCol w="1728720"/>
                <a:gridCol w="1729080"/>
                <a:gridCol w="1728720"/>
              </a:tblGrid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Тип дехидрациј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</a:t>
                      </a:r>
                      <a:r>
                        <a:rPr b="1" lang="sr-Latn-CS" sz="2000" spc="-1" strike="noStrike" baseline="-25000">
                          <a:solidFill>
                            <a:srgbClr val="ffffff"/>
                          </a:solidFill>
                          <a:latin typeface="Century Gothic"/>
                        </a:rPr>
                        <a:t>2</a:t>
                      </a: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O (mL/k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a</a:t>
                      </a:r>
                      <a:r>
                        <a:rPr b="1" lang="sr-Latn-CS" sz="2000" spc="-1" strike="noStrike" baseline="30000">
                          <a:solidFill>
                            <a:srgbClr val="ffffff"/>
                          </a:solidFill>
                          <a:latin typeface="Century Gothic"/>
                        </a:rPr>
                        <a:t>+</a:t>
                      </a: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(mol/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K</a:t>
                      </a:r>
                      <a:r>
                        <a:rPr b="1" lang="sr-Latn-CS" sz="2000" spc="-1" strike="noStrike" baseline="30000">
                          <a:solidFill>
                            <a:srgbClr val="ffffff"/>
                          </a:solidFill>
                          <a:latin typeface="Century Gothic"/>
                        </a:rPr>
                        <a:t>+</a:t>
                      </a: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(mol/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l</a:t>
                      </a:r>
                      <a:r>
                        <a:rPr b="1" lang="sr-Latn-CS" sz="2000" spc="-1" strike="noStrike" baseline="30000">
                          <a:solidFill>
                            <a:srgbClr val="ffffff"/>
                          </a:solidFill>
                          <a:latin typeface="Century Gothic"/>
                        </a:rPr>
                        <a:t>-</a:t>
                      </a: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i HCO</a:t>
                      </a:r>
                      <a:r>
                        <a:rPr b="1" lang="sr-Latn-CS" sz="2000" spc="-1" strike="noStrike" baseline="-25000">
                          <a:solidFill>
                            <a:srgbClr val="ffffff"/>
                          </a:solidFill>
                          <a:latin typeface="Century Gothic"/>
                        </a:rPr>
                        <a:t>3</a:t>
                      </a:r>
                      <a:r>
                        <a:rPr b="1" lang="sr-Latn-CS" sz="2000" spc="-1" strike="noStrike" baseline="30000">
                          <a:solidFill>
                            <a:srgbClr val="ffffff"/>
                          </a:solidFill>
                          <a:latin typeface="Century Gothic"/>
                        </a:rPr>
                        <a:t>-</a:t>
                      </a: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(mol/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зотон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-1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-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-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-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ипотон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-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-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-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-2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ипертона </a:t>
                      </a: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-18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-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-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-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11080" y="836640"/>
            <a:ext cx="7577280" cy="7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entury Gothic"/>
              </a:rPr>
              <a:t>Орална</a:t>
            </a:r>
            <a:r>
              <a:rPr b="0" lang="sr-Latn-CS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Century Gothic"/>
              </a:rPr>
              <a:t>рехидрациј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83800" y="1968480"/>
            <a:ext cx="757548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Блага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до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умерена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дехидрација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Газирани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сокови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ђус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чај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... </a:t>
            </a:r>
            <a:r>
              <a:rPr b="1" lang="sr-RS" sz="2600" spc="-1" strike="noStrike">
                <a:solidFill>
                  <a:srgbClr val="f3311d"/>
                </a:solidFill>
                <a:latin typeface="Century Gothic"/>
              </a:rPr>
              <a:t>НЕ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ОРС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садрже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45-90 </a:t>
            </a: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600" spc="-1" strike="noStrike" baseline="30000">
                <a:solidFill>
                  <a:srgbClr val="3e3d2d"/>
                </a:solidFill>
                <a:latin typeface="Century Gothic"/>
              </a:rPr>
              <a:t>+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, 20-25 </a:t>
            </a: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600" spc="-1" strike="noStrike" baseline="30000">
                <a:solidFill>
                  <a:srgbClr val="3e3d2d"/>
                </a:solidFill>
                <a:latin typeface="Century Gothic"/>
              </a:rPr>
              <a:t>+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, 30-34 </a:t>
            </a: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mmol/L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цитрата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бикарбоната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2-2.5%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глукозе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Дати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малим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појединачним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дозама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(5-15 </a:t>
            </a: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mL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)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Century Gothic"/>
              </a:rPr>
              <a:t> 40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L/kg</a:t>
            </a:r>
            <a:r>
              <a:rPr b="0" lang="sr-Latn-C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Century Gothic"/>
              </a:rPr>
              <a:t> 4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</a:t>
            </a:r>
            <a:r>
              <a:rPr b="0" lang="sr-Latn-C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благу</a:t>
            </a:r>
            <a:r>
              <a:rPr b="0" lang="sr-Latn-C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дехидрациј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Century Gothic"/>
              </a:rPr>
              <a:t> 100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L/kg</a:t>
            </a:r>
            <a:r>
              <a:rPr b="0" lang="sr-Latn-C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Century Gothic"/>
              </a:rPr>
              <a:t> 6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х</a:t>
            </a:r>
            <a:r>
              <a:rPr b="0" lang="sr-Latn-C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умерену</a:t>
            </a:r>
            <a:r>
              <a:rPr b="0" lang="sr-Latn-C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дехидрациј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3311d"/>
                </a:solidFill>
                <a:latin typeface="Century Gothic"/>
              </a:rPr>
              <a:t>Орална</a:t>
            </a:r>
            <a:r>
              <a:rPr b="0" lang="sr-Latn-CS" sz="3200" spc="-1" strike="noStrike">
                <a:solidFill>
                  <a:srgbClr val="f3311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f3311d"/>
                </a:solidFill>
                <a:latin typeface="Century Gothic"/>
              </a:rPr>
              <a:t>рехидрација</a:t>
            </a:r>
            <a:r>
              <a:rPr b="0" lang="sr-Latn-CS" sz="3200" spc="-1" strike="noStrike">
                <a:solidFill>
                  <a:srgbClr val="f3311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f3311d"/>
                </a:solidFill>
                <a:latin typeface="Century Gothic"/>
              </a:rPr>
              <a:t>је</a:t>
            </a:r>
            <a:r>
              <a:rPr b="0" lang="sr-Latn-CS" sz="3200" spc="-1" strike="noStrike">
                <a:solidFill>
                  <a:srgbClr val="f3311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f3311d"/>
                </a:solidFill>
                <a:latin typeface="Century Gothic"/>
              </a:rPr>
              <a:t>контраиндикована</a:t>
            </a:r>
            <a:r>
              <a:rPr b="0" lang="sr-Latn-CS" sz="3200" spc="-1" strike="noStrike">
                <a:solidFill>
                  <a:srgbClr val="f3311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f3311d"/>
                </a:solidFill>
                <a:latin typeface="Century Gothic"/>
              </a:rPr>
              <a:t>код</a:t>
            </a:r>
            <a:r>
              <a:rPr b="0" lang="sr-Latn-CS" sz="3200" spc="-1" strike="noStrike">
                <a:solidFill>
                  <a:srgbClr val="f3311d"/>
                </a:solidFill>
                <a:latin typeface="Century Gothic"/>
              </a:rPr>
              <a:t>: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72960" y="2324160"/>
            <a:ext cx="8398080" cy="3913200"/>
          </a:xfrm>
          <a:prstGeom prst="rect">
            <a:avLst/>
          </a:prstGeom>
          <a:solidFill>
            <a:srgbClr val="ff0000">
              <a:alpha val="7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ffffff"/>
              </a:buClr>
              <a:buSzPct val="76000"/>
              <a:buFont typeface="Century Gothic"/>
              <a:buChar char="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Дец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са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измењеним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стањем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свести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или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респираторним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дистресом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-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н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могу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да пију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самостално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ffffff"/>
              </a:buClr>
              <a:buSzPct val="76000"/>
              <a:buFont typeface="Century Gothic"/>
              <a:buChar char="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Сумњ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на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акутни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абдомен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ffffff"/>
              </a:buClr>
              <a:buSzPct val="76000"/>
              <a:buFont typeface="Century Gothic"/>
              <a:buChar char="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Одојчади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са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губитком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волумена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&gt; 10%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ffffff"/>
              </a:buClr>
              <a:buSzPct val="76000"/>
              <a:buFont typeface="Century Gothic"/>
              <a:buChar char="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Хемодинамски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нестабилн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деце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ffffff"/>
              </a:buClr>
              <a:buSzPct val="76000"/>
              <a:buFont typeface="Century Gothic"/>
              <a:buChar char="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Тешк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хипонатриемиј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(&lt; 120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mol/L Na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)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или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хипернатриемиј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(&gt; 160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mol/L Na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539640" y="2406600"/>
            <a:ext cx="8064720" cy="36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зонатремијск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дехидрациј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.........70-80%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Хипернатремијск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дехидрациј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.......15%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Хипонатремијск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дехидрациј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...... 5-10%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title"/>
          </p:nvPr>
        </p:nvSpPr>
        <p:spPr>
          <a:xfrm>
            <a:off x="611280" y="981000"/>
            <a:ext cx="7456320" cy="88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Учесталост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типов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дехидрац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38360" y="1027080"/>
            <a:ext cx="785016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Терапија</a:t>
            </a:r>
            <a:r>
              <a:rPr b="0" lang="sr-Latn-CS" sz="32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изонатремијске</a:t>
            </a:r>
            <a:r>
              <a:rPr b="0" lang="sr-Latn-CS" sz="32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дехидрације</a:t>
            </a:r>
            <a:br>
              <a:rPr sz="3200"/>
            </a:br>
            <a:r>
              <a:rPr b="0" lang="sr-Latn-CS" sz="2800" spc="-1" strike="noStrike">
                <a:solidFill>
                  <a:srgbClr val="94c6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94c600"/>
                </a:solidFill>
                <a:latin typeface="Arial"/>
              </a:rPr>
              <a:t>I</a:t>
            </a:r>
            <a:r>
              <a:rPr b="0" lang="sr-Latn-CS" sz="2800" spc="-1" strike="noStrike">
                <a:solidFill>
                  <a:srgbClr val="94c600"/>
                </a:solidFill>
                <a:latin typeface="Arial"/>
              </a:rPr>
              <a:t> (</a:t>
            </a:r>
            <a:r>
              <a:rPr b="0" lang="sr-RS" sz="2800" spc="-1" strike="noStrike">
                <a:solidFill>
                  <a:srgbClr val="94c600"/>
                </a:solidFill>
                <a:latin typeface="Arial"/>
              </a:rPr>
              <a:t>ургентна</a:t>
            </a:r>
            <a:r>
              <a:rPr b="0" lang="sr-Latn-CS" sz="2800" spc="-1" strike="noStrike">
                <a:solidFill>
                  <a:srgbClr val="94c600"/>
                </a:solidFill>
                <a:latin typeface="Arial"/>
              </a:rPr>
              <a:t>) </a:t>
            </a:r>
            <a:r>
              <a:rPr b="0" lang="sr-RS" sz="2800" spc="-1" strike="noStrike">
                <a:solidFill>
                  <a:srgbClr val="94c600"/>
                </a:solidFill>
                <a:latin typeface="Arial"/>
              </a:rPr>
              <a:t>фаза</a:t>
            </a:r>
            <a:r>
              <a:rPr b="0" lang="sr-Latn-CS" sz="2800" spc="-1" strike="noStrike">
                <a:solidFill>
                  <a:srgbClr val="94c600"/>
                </a:solidFill>
                <a:latin typeface="Arial"/>
              </a:rPr>
              <a:t> -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59040"/>
            <a:ext cx="7796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1-2h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20 mL/kg T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5% glc + 0.9% NaCl 2-3:1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15-20 mL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лазме или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0.5-0.7 g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лбуми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/kg T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икарбонати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2-3 mmol/kg TM 8.4%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и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pH &lt;7.2, a HCO</a:t>
            </a:r>
            <a:r>
              <a:rPr b="0" lang="sr-Latn-CS" sz="2400" spc="-1" strike="noStrike" baseline="-25000">
                <a:solidFill>
                  <a:srgbClr val="3e3d2d"/>
                </a:solidFill>
                <a:latin typeface="Century Gothic"/>
              </a:rPr>
              <a:t>3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&lt; 15 mmol/L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авати до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pH 7.2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тим поступно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ржати вентилацију и 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pCO</a:t>
            </a:r>
            <a:r>
              <a:rPr b="0" lang="sr-Latn-CS" sz="2400" spc="-1" strike="noStrike" baseline="-25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докнада бикарбона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TM(kg) x 0.3 x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1 mmol NaHCO</a:t>
            </a:r>
            <a:r>
              <a:rPr b="0" lang="sr-Latn-CS" sz="2200" spc="-1" strike="noStrike" baseline="-25000">
                <a:solidFill>
                  <a:srgbClr val="3e3d2d"/>
                </a:solidFill>
                <a:latin typeface="Century Gothic"/>
              </a:rPr>
              <a:t>3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= 1 mL 8.4% NaHCO</a:t>
            </a:r>
            <a:r>
              <a:rPr b="0" lang="sr-Latn-CS" sz="2200" spc="-1" strike="noStrike" baseline="-25000">
                <a:solidFill>
                  <a:srgbClr val="3e3d2d"/>
                </a:solidFill>
                <a:latin typeface="Century Gothic"/>
              </a:rPr>
              <a:t>3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84160" y="1018800"/>
            <a:ext cx="754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Терапија</a:t>
            </a:r>
            <a:r>
              <a:rPr b="0" lang="sr-Latn-CS" sz="32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изонатремијске</a:t>
            </a:r>
            <a:r>
              <a:rPr b="0" lang="sr-Latn-CS" sz="32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дехидрације</a:t>
            </a:r>
            <a:br>
              <a:rPr sz="3200"/>
            </a:br>
            <a:r>
              <a:rPr b="0" lang="sr-Latn-CS" sz="2800" spc="-1" strike="noStrike">
                <a:solidFill>
                  <a:srgbClr val="94c6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94c600"/>
                </a:solidFill>
                <a:latin typeface="Arial"/>
              </a:rPr>
              <a:t>II</a:t>
            </a:r>
            <a:r>
              <a:rPr b="0" lang="sr-Latn-CS" sz="28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Arial"/>
              </a:rPr>
              <a:t>фаза</a:t>
            </a:r>
            <a:r>
              <a:rPr b="0" lang="sr-Latn-CS" sz="2800" spc="-1" strike="noStrike">
                <a:solidFill>
                  <a:srgbClr val="94c600"/>
                </a:solidFill>
                <a:latin typeface="Arial"/>
              </a:rPr>
              <a:t> (</a:t>
            </a:r>
            <a:r>
              <a:rPr b="0" lang="sr-RS" sz="2800" spc="-1" strike="noStrike">
                <a:solidFill>
                  <a:srgbClr val="94c600"/>
                </a:solidFill>
                <a:latin typeface="Arial"/>
              </a:rPr>
              <a:t>надокнаде</a:t>
            </a:r>
            <a:r>
              <a:rPr b="0" lang="sr-Latn-CS" sz="2800" spc="-1" strike="noStrike">
                <a:solidFill>
                  <a:srgbClr val="94c600"/>
                </a:solidFill>
                <a:latin typeface="Arial"/>
              </a:rPr>
              <a:t>) -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42560" y="2781000"/>
            <a:ext cx="6777000" cy="30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међ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4 i 6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ат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40-60 mL/kg T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астав телесних течности према јонограм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Циљ – успоставити диурез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11080" y="102672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Терапија</a:t>
            </a:r>
            <a:r>
              <a:rPr b="0" lang="sr-Latn-CS" sz="32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изонатремијске</a:t>
            </a:r>
            <a:r>
              <a:rPr b="0" lang="sr-Latn-CS" sz="32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дехидрације</a:t>
            </a:r>
            <a:br>
              <a:rPr sz="3200"/>
            </a:br>
            <a:r>
              <a:rPr b="0" lang="sr-Latn-CS" sz="2800" spc="-1" strike="noStrike">
                <a:solidFill>
                  <a:srgbClr val="94c6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94c600"/>
                </a:solidFill>
                <a:latin typeface="Arial"/>
              </a:rPr>
              <a:t>III</a:t>
            </a:r>
            <a:r>
              <a:rPr b="0" lang="sr-Latn-CS" sz="28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Arial"/>
              </a:rPr>
              <a:t>фаза</a:t>
            </a:r>
            <a:r>
              <a:rPr b="0" lang="sr-Latn-CS" sz="2800" spc="-1" strike="noStrike">
                <a:solidFill>
                  <a:srgbClr val="94c600"/>
                </a:solidFill>
                <a:latin typeface="Arial"/>
              </a:rPr>
              <a:t> (</a:t>
            </a:r>
            <a:r>
              <a:rPr b="0" lang="sr-RS" sz="2800" spc="-1" strike="noStrike">
                <a:solidFill>
                  <a:srgbClr val="94c600"/>
                </a:solidFill>
                <a:latin typeface="Arial"/>
              </a:rPr>
              <a:t>опоравка</a:t>
            </a:r>
            <a:r>
              <a:rPr b="0" lang="sr-Latn-CS" sz="2800" spc="-1" strike="noStrike">
                <a:solidFill>
                  <a:srgbClr val="94c600"/>
                </a:solidFill>
                <a:latin typeface="Arial"/>
              </a:rPr>
              <a:t>) -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ко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16 h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аје 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1/2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 волумена планираног за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24h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докнада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K – 3 mmol/kg (7.4% KCl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 пре успостављања диурезе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 више од 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40 mL/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/24h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65280" y="4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82ba12"/>
                </a:solidFill>
                <a:latin typeface="Century Gothic"/>
              </a:rPr>
              <a:t>Програм</a:t>
            </a:r>
            <a:r>
              <a:rPr b="1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82ba12"/>
                </a:solidFill>
                <a:latin typeface="Century Gothic"/>
              </a:rPr>
              <a:t>рехидрације</a:t>
            </a:r>
            <a:r>
              <a:rPr b="1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82ba12"/>
                </a:solidFill>
                <a:latin typeface="Century Gothic"/>
              </a:rPr>
              <a:t>за</a:t>
            </a:r>
            <a:r>
              <a:rPr b="1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82ba12"/>
                </a:solidFill>
                <a:latin typeface="Century Gothic"/>
              </a:rPr>
              <a:t>тешку</a:t>
            </a:r>
            <a:r>
              <a:rPr b="1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82ba12"/>
                </a:solidFill>
                <a:latin typeface="Century Gothic"/>
              </a:rPr>
              <a:t>изонатријумску</a:t>
            </a:r>
            <a:r>
              <a:rPr b="1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82ba12"/>
                </a:solidFill>
                <a:latin typeface="Century Gothic"/>
              </a:rPr>
              <a:t>рехидрацију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665280" y="1676520"/>
          <a:ext cx="7772400" cy="471960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з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рехидрац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рапијски ци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30-60mi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20 mL/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екција вол. васкуларног прост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0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 6-8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:1)+KCL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-100 mL/kg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екција ЕЦ прост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2 mL/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.потреб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 15-17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2 mL/kg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. потреб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:1)+7,4%KCl+10% Calcihe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кући губиц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пуна корекц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2"/>
          <p:cNvSpPr/>
          <p:nvPr/>
        </p:nvSpPr>
        <p:spPr>
          <a:xfrm>
            <a:off x="1317600" y="2421000"/>
            <a:ext cx="69516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З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СВАКО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ЖИВОТНО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ДОБА</a:t>
            </a:r>
            <a:r>
              <a:rPr b="1" lang="sr-CS" sz="32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L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/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м</a:t>
            </a:r>
            <a:r>
              <a:rPr b="1" lang="sl-SI" sz="3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/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дневно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или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10-15%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Т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4"/>
          <p:cNvSpPr/>
          <p:nvPr/>
        </p:nvSpPr>
        <p:spPr>
          <a:xfrm>
            <a:off x="2234160" y="1255680"/>
            <a:ext cx="45424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ПОТРЕБ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ЗА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ВОДО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01280" y="763560"/>
            <a:ext cx="7456680" cy="78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82ba12"/>
                </a:solidFill>
                <a:latin typeface="Century Gothic"/>
              </a:rPr>
              <a:t>Хипонатремијска</a:t>
            </a:r>
            <a:r>
              <a:rPr b="0" lang="sr-Latn-CS" sz="36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82ba12"/>
                </a:solidFill>
                <a:latin typeface="Century Gothic"/>
              </a:rPr>
              <a:t>дехидрација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18920" y="1773000"/>
            <a:ext cx="7885080" cy="14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Углавном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гастроентеритиса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електролит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столицом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овраћањем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grpSp>
        <p:nvGrpSpPr>
          <p:cNvPr id="518" name="Organization Chart 5"/>
          <p:cNvGrpSpPr/>
          <p:nvPr/>
        </p:nvGrpSpPr>
        <p:grpSpPr>
          <a:xfrm>
            <a:off x="1908000" y="3550320"/>
            <a:ext cx="4994640" cy="2723040"/>
            <a:chOff x="1908000" y="3550320"/>
            <a:chExt cx="4994640" cy="2723040"/>
          </a:xfrm>
        </p:grpSpPr>
        <p:cxnSp>
          <p:nvCxnSpPr>
            <p:cNvPr id="519" name="_s1028"/>
            <p:cNvCxnSpPr>
              <a:stCxn id="520" idx="0"/>
              <a:endCxn id="521" idx="2"/>
            </p:cNvCxnSpPr>
            <p:nvPr/>
          </p:nvCxnSpPr>
          <p:spPr>
            <a:xfrm flipV="1">
              <a:off x="3043080" y="5208840"/>
              <a:ext cx="2880" cy="399960"/>
            </a:xfrm>
            <a:prstGeom prst="bentConnector2">
              <a:avLst/>
            </a:prstGeom>
            <a:ln w="38160">
              <a:solidFill>
                <a:srgbClr val="d5e999"/>
              </a:solidFill>
              <a:miter/>
            </a:ln>
          </p:spPr>
        </p:cxnSp>
        <p:cxnSp>
          <p:nvCxnSpPr>
            <p:cNvPr id="522" name="_s1029"/>
            <p:cNvCxnSpPr>
              <a:stCxn id="523" idx="0"/>
            </p:cNvCxnSpPr>
            <p:nvPr/>
          </p:nvCxnSpPr>
          <p:spPr>
            <a:xfrm flipH="1" flipV="1" rot="5400000">
              <a:off x="5530680" y="5406120"/>
              <a:ext cx="399960" cy="5400"/>
            </a:xfrm>
            <a:prstGeom prst="bentConnector3">
              <a:avLst>
                <a:gd name="adj1" fmla="val 26306"/>
              </a:avLst>
            </a:prstGeom>
            <a:ln w="38160">
              <a:solidFill>
                <a:srgbClr val="d5e999"/>
              </a:solidFill>
              <a:miter/>
            </a:ln>
          </p:spPr>
        </p:cxnSp>
        <p:cxnSp>
          <p:nvCxnSpPr>
            <p:cNvPr id="524" name="_s1030"/>
            <p:cNvCxnSpPr/>
            <p:nvPr/>
          </p:nvCxnSpPr>
          <p:spPr>
            <a:xfrm flipV="1" rot="16200000">
              <a:off x="4984200" y="3699720"/>
              <a:ext cx="399960" cy="1299960"/>
            </a:xfrm>
            <a:prstGeom prst="bentConnector3">
              <a:avLst>
                <a:gd name="adj1" fmla="val 29729"/>
              </a:avLst>
            </a:prstGeom>
            <a:ln w="38160">
              <a:solidFill>
                <a:srgbClr val="94c600"/>
              </a:solidFill>
              <a:miter/>
            </a:ln>
          </p:spPr>
        </p:cxnSp>
        <p:cxnSp>
          <p:nvCxnSpPr>
            <p:cNvPr id="525" name="_s1031"/>
            <p:cNvCxnSpPr/>
            <p:nvPr/>
          </p:nvCxnSpPr>
          <p:spPr>
            <a:xfrm flipH="1" flipV="1" rot="5400000">
              <a:off x="3232080" y="3917160"/>
              <a:ext cx="1064520" cy="1524240"/>
            </a:xfrm>
            <a:prstGeom prst="bentConnector3">
              <a:avLst>
                <a:gd name="adj1" fmla="val 74323"/>
              </a:avLst>
            </a:prstGeom>
            <a:ln w="38160">
              <a:solidFill>
                <a:srgbClr val="94c600"/>
              </a:solidFill>
              <a:miter/>
            </a:ln>
          </p:spPr>
        </p:cxnSp>
        <p:sp>
          <p:nvSpPr>
            <p:cNvPr id="526" name="_s1032"/>
            <p:cNvSpPr/>
            <p:nvPr/>
          </p:nvSpPr>
          <p:spPr>
            <a:xfrm>
              <a:off x="3002400" y="3550320"/>
              <a:ext cx="2950200" cy="59688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↓</a:t>
              </a:r>
              <a:r>
                <a:rPr b="0" lang="sr-Latn-CS" sz="31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ECT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_s1033"/>
            <p:cNvSpPr/>
            <p:nvPr/>
          </p:nvSpPr>
          <p:spPr>
            <a:xfrm>
              <a:off x="1908000" y="4548240"/>
              <a:ext cx="2268000" cy="66132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9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↑ </a:t>
              </a:r>
              <a:r>
                <a:rPr b="0" lang="sr-Latn-CS" sz="2900" spc="-1" strike="noStrike">
                  <a:solidFill>
                    <a:srgbClr val="000000"/>
                  </a:solidFill>
                  <a:latin typeface="Century Gothic"/>
                </a:rPr>
                <a:t>aldostero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_s1034"/>
            <p:cNvSpPr/>
            <p:nvPr/>
          </p:nvSpPr>
          <p:spPr>
            <a:xfrm>
              <a:off x="4644000" y="4548240"/>
              <a:ext cx="2258640" cy="661320"/>
            </a:xfrm>
            <a:prstGeom prst="roundRect">
              <a:avLst>
                <a:gd name="adj" fmla="val 16583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900" spc="-1" strike="noStrike">
                  <a:solidFill>
                    <a:srgbClr val="000000"/>
                  </a:solidFill>
                  <a:latin typeface="Century Gothic"/>
                </a:rPr>
                <a:t>↑ </a:t>
              </a:r>
              <a:r>
                <a:rPr b="0" lang="sr-Latn-CS" sz="2900" spc="-1" strike="noStrike">
                  <a:solidFill>
                    <a:srgbClr val="000000"/>
                  </a:solidFill>
                  <a:latin typeface="Century Gothic"/>
                </a:rPr>
                <a:t>ADH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_s1035"/>
            <p:cNvSpPr/>
            <p:nvPr/>
          </p:nvSpPr>
          <p:spPr>
            <a:xfrm>
              <a:off x="4607280" y="5609160"/>
              <a:ext cx="2239560" cy="66420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200" spc="-1" strike="noStrike">
                  <a:solidFill>
                    <a:srgbClr val="000000"/>
                  </a:solidFill>
                  <a:latin typeface="Century Gothic"/>
                </a:rPr>
                <a:t>Povećana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200" spc="-1" strike="noStrike">
                  <a:solidFill>
                    <a:srgbClr val="000000"/>
                  </a:solidFill>
                  <a:latin typeface="Century Gothic"/>
                </a:rPr>
                <a:t>resorpcija vod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_s1036"/>
            <p:cNvSpPr/>
            <p:nvPr/>
          </p:nvSpPr>
          <p:spPr>
            <a:xfrm>
              <a:off x="1908000" y="5609160"/>
              <a:ext cx="2268000" cy="66420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200" spc="-1" strike="noStrike">
                  <a:solidFill>
                    <a:srgbClr val="000000"/>
                  </a:solidFill>
                  <a:latin typeface="Century Gothic"/>
                </a:rPr>
                <a:t>Resorpcija Na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200" spc="-1" strike="noStrike">
                  <a:solidFill>
                    <a:srgbClr val="000000"/>
                  </a:solidFill>
                  <a:latin typeface="Century Gothic"/>
                </a:rPr>
                <a:t>i gubitak K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7360" y="873000"/>
            <a:ext cx="8909280" cy="927360"/>
          </a:xfrm>
          <a:prstGeom prst="rect">
            <a:avLst/>
          </a:prstGeom>
          <a:solidFill>
            <a:srgbClr val="ffffff"/>
          </a:solidFill>
          <a:ln w="34920">
            <a:solidFill>
              <a:srgbClr val="82ba12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82ba12"/>
                </a:solidFill>
                <a:latin typeface="Century Gothic"/>
              </a:rPr>
              <a:t>Разликовати</a:t>
            </a:r>
            <a:r>
              <a:rPr b="0" lang="sr-Latn-CS" sz="26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82ba12"/>
                </a:solidFill>
                <a:latin typeface="Century Gothic"/>
              </a:rPr>
              <a:t>од</a:t>
            </a:r>
            <a:r>
              <a:rPr b="0" lang="sr-Latn-CS" sz="2600" spc="-1" strike="noStrike">
                <a:solidFill>
                  <a:srgbClr val="82ba12"/>
                </a:solidFill>
                <a:latin typeface="Century Gothic"/>
              </a:rPr>
              <a:t> </a:t>
            </a:r>
            <a:br>
              <a:rPr sz="2600"/>
            </a:br>
            <a:r>
              <a:rPr b="0" lang="sr-RS" sz="2600" spc="-1" strike="noStrike">
                <a:solidFill>
                  <a:srgbClr val="82ba12"/>
                </a:solidFill>
                <a:latin typeface="Century Gothic"/>
              </a:rPr>
              <a:t>псеудохипонатремије</a:t>
            </a:r>
            <a:r>
              <a:rPr b="0" lang="sr-Latn-CS" sz="26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82ba12"/>
                </a:solidFill>
                <a:latin typeface="Century Gothic"/>
              </a:rPr>
              <a:t>и</a:t>
            </a:r>
            <a:r>
              <a:rPr b="0" lang="sr-Latn-CS" sz="26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82ba12"/>
                </a:solidFill>
                <a:latin typeface="Century Gothic"/>
              </a:rPr>
              <a:t>хипертоне</a:t>
            </a:r>
            <a:r>
              <a:rPr b="0" lang="sr-Latn-CS" sz="26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82ba12"/>
                </a:solidFill>
                <a:latin typeface="Century Gothic"/>
              </a:rPr>
              <a:t>хипонатремије</a:t>
            </a:r>
            <a:endParaRPr b="0" lang="en-US" sz="2600" spc="-1" strike="noStrike">
              <a:solidFill>
                <a:srgbClr val="94c600"/>
              </a:solidFill>
              <a:latin typeface="Century Gothic"/>
            </a:endParaRPr>
          </a:p>
        </p:txBody>
      </p:sp>
      <p:grpSp>
        <p:nvGrpSpPr>
          <p:cNvPr id="529" name="Organization Chart 5"/>
          <p:cNvGrpSpPr/>
          <p:nvPr/>
        </p:nvGrpSpPr>
        <p:grpSpPr>
          <a:xfrm>
            <a:off x="612720" y="2384280"/>
            <a:ext cx="8099280" cy="4249800"/>
            <a:chOff x="612720" y="2384280"/>
            <a:chExt cx="8099280" cy="4249800"/>
          </a:xfrm>
        </p:grpSpPr>
        <p:cxnSp>
          <p:nvCxnSpPr>
            <p:cNvPr id="530" name="_s2052"/>
            <p:cNvCxnSpPr/>
            <p:nvPr/>
          </p:nvCxnSpPr>
          <p:spPr>
            <a:xfrm>
              <a:off x="3563640" y="3871440"/>
              <a:ext cx="1710720" cy="2520"/>
            </a:xfrm>
            <a:prstGeom prst="bentConnector2">
              <a:avLst/>
            </a:prstGeom>
            <a:ln w="38160">
              <a:solidFill>
                <a:srgbClr val="94c600"/>
              </a:solidFill>
              <a:miter/>
            </a:ln>
          </p:spPr>
        </p:cxnSp>
        <p:cxnSp>
          <p:nvCxnSpPr>
            <p:cNvPr id="531" name="_s2053"/>
            <p:cNvCxnSpPr>
              <a:stCxn id="532" idx="0"/>
              <a:endCxn id="533" idx="2"/>
            </p:cNvCxnSpPr>
            <p:nvPr/>
          </p:nvCxnSpPr>
          <p:spPr>
            <a:xfrm flipV="1" rot="16200000">
              <a:off x="6521400" y="3722760"/>
              <a:ext cx="484920" cy="10080"/>
            </a:xfrm>
            <a:prstGeom prst="bentConnector3">
              <a:avLst>
                <a:gd name="adj1" fmla="val 23551"/>
              </a:avLst>
            </a:prstGeom>
            <a:ln w="38160">
              <a:solidFill>
                <a:srgbClr val="94c600"/>
              </a:solidFill>
              <a:miter/>
            </a:ln>
          </p:spPr>
        </p:cxnSp>
        <p:cxnSp>
          <p:nvCxnSpPr>
            <p:cNvPr id="534" name="_s2054"/>
            <p:cNvCxnSpPr>
              <a:stCxn id="535" idx="0"/>
              <a:endCxn id="536" idx="2"/>
            </p:cNvCxnSpPr>
            <p:nvPr/>
          </p:nvCxnSpPr>
          <p:spPr>
            <a:xfrm flipH="1" flipV="1" rot="5400000">
              <a:off x="2311920" y="3723120"/>
              <a:ext cx="562680" cy="2160"/>
            </a:xfrm>
            <a:prstGeom prst="bentConnector3">
              <a:avLst>
                <a:gd name="adj1" fmla="val 20294"/>
              </a:avLst>
            </a:prstGeom>
            <a:ln w="38160">
              <a:solidFill>
                <a:srgbClr val="d5e999"/>
              </a:solidFill>
              <a:miter/>
            </a:ln>
          </p:spPr>
        </p:cxnSp>
        <p:sp>
          <p:nvSpPr>
            <p:cNvPr id="533" name="_s2055"/>
            <p:cNvSpPr/>
            <p:nvPr/>
          </p:nvSpPr>
          <p:spPr>
            <a:xfrm>
              <a:off x="5472000" y="2398680"/>
              <a:ext cx="2573280" cy="10875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200" spc="-1" strike="noStrike">
                  <a:solidFill>
                    <a:srgbClr val="000000"/>
                  </a:solidFill>
                  <a:latin typeface="Times New Roman"/>
                </a:rPr>
                <a:t>Hipertona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200" spc="-1" strike="noStrike">
                  <a:solidFill>
                    <a:srgbClr val="000000"/>
                  </a:solidFill>
                  <a:latin typeface="Times New Roman"/>
                </a:rPr>
                <a:t>&gt; 295 mOsm/kg H</a:t>
              </a:r>
              <a:r>
                <a:rPr b="0" lang="sr-Latn-CS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sr-Latn-CS" sz="2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_s2056"/>
            <p:cNvSpPr/>
            <p:nvPr/>
          </p:nvSpPr>
          <p:spPr>
            <a:xfrm>
              <a:off x="1260360" y="2384280"/>
              <a:ext cx="2666880" cy="105912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200" spc="-1" strike="noStrike">
                  <a:solidFill>
                    <a:srgbClr val="000000"/>
                  </a:solidFill>
                  <a:latin typeface="Times New Roman"/>
                </a:rPr>
                <a:t>Izoton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200" spc="-1" strike="noStrike">
                  <a:solidFill>
                    <a:srgbClr val="000000"/>
                  </a:solidFill>
                  <a:latin typeface="Times New Roman"/>
                </a:rPr>
                <a:t>280-295 mOsm/kg H</a:t>
              </a:r>
              <a:r>
                <a:rPr b="0" lang="sr-Latn-CS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sr-Latn-CS" sz="2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_s2057"/>
            <p:cNvSpPr/>
            <p:nvPr/>
          </p:nvSpPr>
          <p:spPr>
            <a:xfrm>
              <a:off x="612720" y="4005360"/>
              <a:ext cx="3958920" cy="25844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iperlipidemij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Gubitak Na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Trigliceridi (mg/dL) x 0.0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iperproteinemij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Gubitak Na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(proteini u plazmi g/dL – 8g/dL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x 0.0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_s2058"/>
            <p:cNvSpPr/>
            <p:nvPr/>
          </p:nvSpPr>
          <p:spPr>
            <a:xfrm>
              <a:off x="4824360" y="3970440"/>
              <a:ext cx="3887640" cy="266364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avanje glukoze ili manitol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*za svakih 100 mg/dL glc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sNa opada za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~</a:t>
              </a: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1.6 mmol/d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za svakih 0.5 mg/kg datog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nitola sNa opada za 4-5 mmol/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24"/>
            <p:cNvSpPr/>
            <p:nvPr/>
          </p:nvSpPr>
          <p:spPr>
            <a:xfrm>
              <a:off x="6768720" y="3470400"/>
              <a:ext cx="1800" cy="534960"/>
            </a:xfrm>
            <a:prstGeom prst="line">
              <a:avLst/>
            </a:prstGeom>
            <a:ln w="50760">
              <a:solidFill>
                <a:srgbClr val="8bc7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Rectangle 22"/>
            <p:cNvSpPr/>
            <p:nvPr/>
          </p:nvSpPr>
          <p:spPr>
            <a:xfrm>
              <a:off x="3557520" y="3646440"/>
              <a:ext cx="1981080" cy="26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20"/>
            <p:cNvSpPr/>
            <p:nvPr/>
          </p:nvSpPr>
          <p:spPr>
            <a:xfrm>
              <a:off x="2592360" y="3424320"/>
              <a:ext cx="1440" cy="581040"/>
            </a:xfrm>
            <a:prstGeom prst="line">
              <a:avLst/>
            </a:prstGeom>
            <a:ln w="50760">
              <a:solidFill>
                <a:srgbClr val="8bc7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Line 21"/>
          <p:cNvSpPr/>
          <p:nvPr/>
        </p:nvSpPr>
        <p:spPr>
          <a:xfrm flipH="1">
            <a:off x="3635280" y="3573360"/>
            <a:ext cx="1332000" cy="0"/>
          </a:xfrm>
          <a:prstGeom prst="line">
            <a:avLst/>
          </a:prstGeom>
          <a:ln cap="rnd" w="349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23"/>
          <p:cNvSpPr/>
          <p:nvPr/>
        </p:nvSpPr>
        <p:spPr>
          <a:xfrm>
            <a:off x="2556000" y="1881360"/>
            <a:ext cx="0" cy="360360"/>
          </a:xfrm>
          <a:prstGeom prst="line">
            <a:avLst/>
          </a:prstGeom>
          <a:ln w="44280">
            <a:solidFill>
              <a:srgbClr val="8bc7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25"/>
          <p:cNvSpPr/>
          <p:nvPr/>
        </p:nvSpPr>
        <p:spPr>
          <a:xfrm>
            <a:off x="6804000" y="1881360"/>
            <a:ext cx="0" cy="360360"/>
          </a:xfrm>
          <a:prstGeom prst="line">
            <a:avLst/>
          </a:prstGeom>
          <a:ln w="44280">
            <a:solidFill>
              <a:srgbClr val="8bc7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91640" y="10267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Симптоми</a:t>
            </a:r>
            <a:r>
              <a:rPr b="0" lang="sr-Latn-CS" sz="3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и</a:t>
            </a:r>
            <a:r>
              <a:rPr b="0" lang="sr-Latn-CS" sz="3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знаци</a:t>
            </a:r>
            <a:r>
              <a:rPr b="0" lang="sr-Latn-CS" sz="3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хипонатремијске</a:t>
            </a:r>
            <a:r>
              <a:rPr b="0" lang="sr-Latn-CS" sz="3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дехидрације</a:t>
            </a:r>
            <a:endParaRPr b="0" lang="en-US" sz="3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4360" y="2323800"/>
            <a:ext cx="777528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мптом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нац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хидрациј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мптом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нац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ражениј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г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шт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чекивал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губље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%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М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рз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а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&gt;10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/24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а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сп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25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раже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мптом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ЦН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-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пад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натремиј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а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фрактер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нтиконвулзив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400" spc="-1" strike="noStrike" u="sng">
                <a:solidFill>
                  <a:srgbClr val="3e3d2d"/>
                </a:solidFill>
                <a:uFillTx/>
                <a:latin typeface="Century Gothic"/>
              </a:rPr>
              <a:t>корекција</a:t>
            </a:r>
            <a:r>
              <a:rPr b="0" lang="sr-Latn-CS" sz="24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400" spc="-1" strike="noStrike" u="sng">
                <a:solidFill>
                  <a:srgbClr val="3e3d2d"/>
                </a:solidFill>
                <a:uFillTx/>
                <a:latin typeface="Century Gothic"/>
              </a:rPr>
              <a:t>осмоларност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42560" y="1196640"/>
            <a:ext cx="702468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Терапијски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приступ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042920" y="2323800"/>
            <a:ext cx="712944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Лечењ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основног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оремећаја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Оралн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нтравенск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корекциј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дехидрације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Корекциј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хипонатремије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55280" y="1027080"/>
            <a:ext cx="731196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Терапија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18920" y="2323800"/>
            <a:ext cx="766908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благу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до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умерену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дехидрацију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орално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осим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враћ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честало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адекват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в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ечнос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5-15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/5-10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in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Умерена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рехидрацију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могуће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започети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.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в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болусом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20-40 </a:t>
            </a: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mL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0.9</a:t>
            </a: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 NaCl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30-60 </a:t>
            </a: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min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7720" y="1294920"/>
            <a:ext cx="7620120" cy="4496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Century Gothic"/>
              </a:rPr>
              <a:t>ТЕРАПИЈА ХИПОНАТРЕМИЈСКЕ ДЕХИДРАЦИЈЕ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Century Gothic"/>
              </a:rPr>
              <a:t>I  </a:t>
            </a:r>
            <a:r>
              <a:rPr b="1" lang="sr-RS" sz="2400" spc="-1" strike="noStrike">
                <a:solidFill>
                  <a:srgbClr val="ffffff"/>
                </a:solidFill>
                <a:latin typeface="Century Gothic"/>
              </a:rPr>
              <a:t>ФАЗА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Century Gothic"/>
              </a:rPr>
              <a:t>5%Glc+0,9%NaCl 20 ml/kg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Century Gothic"/>
              </a:rPr>
              <a:t>II  </a:t>
            </a:r>
            <a:r>
              <a:rPr b="1" lang="sr-RS" sz="2400" spc="-1" strike="noStrike">
                <a:solidFill>
                  <a:srgbClr val="ffffff"/>
                </a:solidFill>
                <a:latin typeface="Century Gothic"/>
              </a:rPr>
              <a:t>ФАЗА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Century Gothic"/>
              </a:rPr>
              <a:t>5%Glc+0,9%NaCl 1:1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Century Gothic"/>
              </a:rPr>
              <a:t>Na &lt; 120 mmol/l </a:t>
            </a:r>
            <a:r>
              <a:rPr b="1" lang="sr-RS" sz="2400" spc="-1" strike="noStrike">
                <a:solidFill>
                  <a:srgbClr val="ffffff"/>
                </a:solidFill>
                <a:latin typeface="Century Gothic"/>
              </a:rPr>
              <a:t>и симптоми ЦНС</a:t>
            </a:r>
            <a:r>
              <a:rPr b="1" lang="sr-Latn-CS" sz="2400" spc="-1" strike="noStrike">
                <a:solidFill>
                  <a:srgbClr val="ffffff"/>
                </a:solidFill>
                <a:latin typeface="Century Gothic"/>
              </a:rPr>
              <a:t>-a 3%NaCl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Century Gothic"/>
              </a:rPr>
              <a:t>III </a:t>
            </a:r>
            <a:r>
              <a:rPr b="1" lang="sr-RS" sz="2400" spc="-1" strike="noStrike">
                <a:solidFill>
                  <a:srgbClr val="ffffff"/>
                </a:solidFill>
                <a:latin typeface="Century Gothic"/>
              </a:rPr>
              <a:t>ФАЗА</a:t>
            </a:r>
            <a:br>
              <a:rPr sz="2400"/>
            </a:br>
            <a:r>
              <a:rPr b="1" lang="sr-RS" sz="2400" spc="-1" strike="noStrike">
                <a:solidFill>
                  <a:srgbClr val="ffffff"/>
                </a:solidFill>
                <a:latin typeface="Century Gothic"/>
              </a:rPr>
              <a:t>идентична као код изонатриемијске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76000" y="620280"/>
            <a:ext cx="377964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8000"/>
                </a:solidFill>
                <a:latin typeface="Century Gothic"/>
              </a:rPr>
              <a:t>Случај</a:t>
            </a:r>
            <a:r>
              <a:rPr b="0" lang="sr-Latn-CS" sz="3200" spc="-1" strike="noStrike">
                <a:solidFill>
                  <a:srgbClr val="008000"/>
                </a:solidFill>
                <a:latin typeface="Century Gothic"/>
              </a:rPr>
              <a:t> ???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18920" y="1557000"/>
            <a:ext cx="784836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Женс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ојч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тар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4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есец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ебри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4-5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38-38.5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º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рој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енаст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толиц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лаб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ктивно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шт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б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дој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руг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ран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ава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газира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оков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слађе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ледени чај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ледњ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2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ч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ратил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коли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у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ил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г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бич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окр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елен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тату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летаргич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ув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лузниц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у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пал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ч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лабље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ургор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ж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74/43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Hg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38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º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R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36/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75/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6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7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6.6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 .......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860760" y="6175440"/>
            <a:ext cx="7441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Sokovi sadrže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~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550-700mOsm/kg sa &lt; 5mmol/L 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AutoShape 6"/>
          <p:cNvSpPr/>
          <p:nvPr/>
        </p:nvSpPr>
        <p:spPr>
          <a:xfrm>
            <a:off x="5400720" y="5337000"/>
            <a:ext cx="1079280" cy="324000"/>
          </a:xfrm>
          <a:prstGeom prst="pie">
            <a:avLst/>
          </a:prstGeom>
          <a:solidFill>
            <a:srgbClr val="caf2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61" dur="1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4c600"/>
                                      </p:to>
                                    </p:animClr>
                                    <p:animClr clrSpc="rgb">
                                      <p:cBhvr>
                                        <p:cTn id="62" dur="1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4c600"/>
                                      </p:to>
                                    </p:animClr>
                                    <p:set>
                                      <p:cBhvr>
                                        <p:cTn id="63" dur="1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47280" y="1197000"/>
            <a:ext cx="777708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........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оспитализова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б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хидрациј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Лаборатор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24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94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4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HC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</a:t>
            </a:r>
            <a:r>
              <a:rPr b="0" lang="sr-Latn-CS" sz="2200" spc="-1" strike="noStrike" baseline="-25000">
                <a:solidFill>
                  <a:srgbClr val="3e3d2d"/>
                </a:solidFill>
                <a:latin typeface="Century Gothic"/>
              </a:rPr>
              <a:t>3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2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мол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Л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реатини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70.7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u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е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6.6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лц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3.9 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Hct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38%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SG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.030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теи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раг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ал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ето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реатини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3536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u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5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F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</a:t>
            </a:r>
            <a:r>
              <a:rPr b="0" lang="en-US" sz="2200" spc="-1" strike="noStrike" baseline="-25000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200" spc="-1" strike="noStrike" baseline="-25000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0.23%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губил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aC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</a:t>
            </a:r>
            <a:r>
              <a:rPr b="0" lang="sr-Latn-CS" sz="2400" spc="-1" strike="noStrike" baseline="-25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→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а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моларнос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Ц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%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хидра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0%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ормал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араметр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R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36/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30/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89/54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Hg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5" name="Rectangle 6"/>
          <p:cNvSpPr/>
          <p:nvPr/>
        </p:nvSpPr>
        <p:spPr>
          <a:xfrm>
            <a:off x="108000" y="6149880"/>
            <a:ext cx="9036000" cy="40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e3d2d"/>
                </a:solidFill>
                <a:latin typeface="Century Gothic"/>
              </a:rPr>
              <a:t>FE</a:t>
            </a:r>
            <a:r>
              <a:rPr b="0" lang="sr-Latn-CS" sz="1800" spc="-1" strike="noStrike" baseline="-25000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sr-Latn-CS" sz="1800" spc="-1" strike="noStrike">
                <a:solidFill>
                  <a:srgbClr val="3e3d2d"/>
                </a:solidFill>
                <a:latin typeface="Century Gothic"/>
              </a:rPr>
              <a:t>= (Na (u) x </a:t>
            </a:r>
            <a:r>
              <a:rPr b="0" lang="sr-RS" sz="1800" spc="-1" strike="noStrike">
                <a:solidFill>
                  <a:srgbClr val="3e3d2d"/>
                </a:solidFill>
                <a:latin typeface="Century Gothic"/>
              </a:rPr>
              <a:t>креатинин</a:t>
            </a:r>
            <a:r>
              <a:rPr b="0" lang="sr-Latn-CS" sz="1800" spc="-1" strike="noStrike">
                <a:solidFill>
                  <a:srgbClr val="3e3d2d"/>
                </a:solidFill>
                <a:latin typeface="Century Gothic"/>
              </a:rPr>
              <a:t>(</a:t>
            </a:r>
            <a:r>
              <a:rPr b="0" lang="sr-RS" sz="1800" spc="-1" strike="noStrike">
                <a:solidFill>
                  <a:srgbClr val="3e3d2d"/>
                </a:solidFill>
                <a:latin typeface="Century Gothic"/>
              </a:rPr>
              <a:t>с</a:t>
            </a:r>
            <a:r>
              <a:rPr b="0" lang="sr-Latn-CS" sz="1800" spc="-1" strike="noStrike">
                <a:solidFill>
                  <a:srgbClr val="3e3d2d"/>
                </a:solidFill>
                <a:latin typeface="Century Gothic"/>
              </a:rPr>
              <a:t>))/(Na (</a:t>
            </a:r>
            <a:r>
              <a:rPr b="0" lang="sr-RS" sz="1800" spc="-1" strike="noStrike">
                <a:solidFill>
                  <a:srgbClr val="3e3d2d"/>
                </a:solidFill>
                <a:latin typeface="Century Gothic"/>
              </a:rPr>
              <a:t>с</a:t>
            </a:r>
            <a:r>
              <a:rPr b="0" lang="sr-Latn-CS" sz="1800" spc="-1" strike="noStrike">
                <a:solidFill>
                  <a:srgbClr val="3e3d2d"/>
                </a:solidFill>
                <a:latin typeface="Century Gothic"/>
              </a:rPr>
              <a:t>) x </a:t>
            </a:r>
            <a:r>
              <a:rPr b="0" lang="sr-RS" sz="1800" spc="-1" strike="noStrike">
                <a:solidFill>
                  <a:srgbClr val="3e3d2d"/>
                </a:solidFill>
                <a:latin typeface="Century Gothic"/>
              </a:rPr>
              <a:t>креатинин</a:t>
            </a:r>
            <a:r>
              <a:rPr b="0" lang="sr-Latn-CS" sz="1800" spc="-1" strike="noStrike">
                <a:solidFill>
                  <a:srgbClr val="3e3d2d"/>
                </a:solidFill>
                <a:latin typeface="Century Gothic"/>
              </a:rPr>
              <a:t>(</a:t>
            </a:r>
            <a:r>
              <a:rPr b="0" lang="sr-RS" sz="18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1800" spc="-1" strike="noStrike">
                <a:solidFill>
                  <a:srgbClr val="3e3d2d"/>
                </a:solidFill>
                <a:latin typeface="Century Gothic"/>
              </a:rPr>
              <a:t>)) x 100; Normalno 1-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65280" y="728280"/>
            <a:ext cx="785016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Терапијски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план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- </a:t>
            </a:r>
            <a:r>
              <a:rPr b="0" lang="en-US" sz="3200" spc="-1" strike="noStrike">
                <a:solidFill>
                  <a:srgbClr val="82ba12"/>
                </a:solidFill>
                <a:latin typeface="Century Gothic"/>
              </a:rPr>
              <a:t>I</a:t>
            </a:r>
            <a:r>
              <a:rPr b="0" lang="sr-Latn-CS" sz="3200" spc="-1" strike="noStrike">
                <a:solidFill>
                  <a:srgbClr val="82ba12"/>
                </a:solidFill>
                <a:latin typeface="Century Gothic"/>
              </a:rPr>
              <a:t> (</a:t>
            </a:r>
            <a:r>
              <a:rPr b="0" lang="sr-RS" sz="3200" spc="-1" strike="noStrike">
                <a:solidFill>
                  <a:srgbClr val="82ba12"/>
                </a:solidFill>
                <a:latin typeface="Century Gothic"/>
              </a:rPr>
              <a:t>акутна</a:t>
            </a:r>
            <a:r>
              <a:rPr b="0" lang="sr-Latn-CS" sz="3200" spc="-1" strike="noStrike">
                <a:solidFill>
                  <a:srgbClr val="82ba12"/>
                </a:solidFill>
                <a:latin typeface="Century Gothic"/>
              </a:rPr>
              <a:t>) </a:t>
            </a:r>
            <a:r>
              <a:rPr b="0" lang="sr-RS" sz="3200" spc="-1" strike="noStrike">
                <a:solidFill>
                  <a:srgbClr val="82ba12"/>
                </a:solidFill>
                <a:latin typeface="Century Gothic"/>
              </a:rPr>
              <a:t>фаза</a:t>
            </a:r>
            <a:r>
              <a:rPr b="0" lang="sr-Latn-CS" sz="3200" spc="-1" strike="noStrike">
                <a:solidFill>
                  <a:srgbClr val="82ba12"/>
                </a:solidFill>
                <a:latin typeface="Century Gothic"/>
              </a:rPr>
              <a:t>: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68360" y="1665360"/>
            <a:ext cx="8207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око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уж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луча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еће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убит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луме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нфуз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отон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aC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5%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лбуми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ингер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лакта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лазм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ормализа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циркулаторн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лумен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пречав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перфуз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италн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рган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 x 20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30-60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    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6 x 20 = 120 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m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ви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докнад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20%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губљен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луме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600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55480" y="1026720"/>
            <a:ext cx="810576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94c600"/>
                </a:solidFill>
                <a:latin typeface="Century Gothic"/>
              </a:rPr>
              <a:t>Терапијски</a:t>
            </a:r>
            <a:r>
              <a:rPr b="0" lang="sr-Latn-CS" sz="30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000" spc="-1" strike="noStrike">
                <a:solidFill>
                  <a:srgbClr val="94c600"/>
                </a:solidFill>
                <a:latin typeface="Century Gothic"/>
              </a:rPr>
              <a:t>план</a:t>
            </a:r>
            <a:r>
              <a:rPr b="0" lang="sr-Latn-CS" sz="3000" spc="-1" strike="noStrike">
                <a:solidFill>
                  <a:srgbClr val="94c600"/>
                </a:solidFill>
                <a:latin typeface="Century Gothic"/>
              </a:rPr>
              <a:t> - </a:t>
            </a:r>
            <a:r>
              <a:rPr b="0" lang="en-US" sz="3000" spc="-1" strike="noStrike">
                <a:solidFill>
                  <a:srgbClr val="82ba12"/>
                </a:solidFill>
                <a:latin typeface="Century Gothic"/>
              </a:rPr>
              <a:t>II</a:t>
            </a:r>
            <a:r>
              <a:rPr b="0" lang="sr-Latn-CS" sz="30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3000" spc="-1" strike="noStrike">
                <a:solidFill>
                  <a:srgbClr val="82ba12"/>
                </a:solidFill>
                <a:latin typeface="Century Gothic"/>
              </a:rPr>
              <a:t>фаза</a:t>
            </a:r>
            <a:r>
              <a:rPr b="0" lang="sr-Latn-CS" sz="3000" spc="-1" strike="noStrike">
                <a:solidFill>
                  <a:srgbClr val="82ba12"/>
                </a:solidFill>
                <a:latin typeface="Century Gothic"/>
              </a:rPr>
              <a:t> (</a:t>
            </a:r>
            <a:r>
              <a:rPr b="0" lang="sr-RS" sz="3000" spc="-1" strike="noStrike">
                <a:solidFill>
                  <a:srgbClr val="82ba12"/>
                </a:solidFill>
                <a:latin typeface="Century Gothic"/>
              </a:rPr>
              <a:t>надокнаде</a:t>
            </a:r>
            <a:r>
              <a:rPr b="0" lang="sr-Latn-CS" sz="3000" spc="-1" strike="noStrike">
                <a:solidFill>
                  <a:srgbClr val="82ba12"/>
                </a:solidFill>
                <a:latin typeface="Century Gothic"/>
              </a:rPr>
              <a:t>):</a:t>
            </a:r>
            <a:endParaRPr b="0" lang="en-US" sz="3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064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невне потребе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 основ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тандардних проце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6.6 kg x 100mL/kg = 660 m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Na: 3 mmol/100mL x 660 mL = 20 mmo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K: 2 mmol/100mL x 660 mL = 13 mmol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 основу стандардних проце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Na =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фицит течнос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(L) x 0.6 x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ор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нц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Na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 серуму 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= 0.6 x 0.6 x 140 = 50 mmo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одатни 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Na: (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жеље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Na –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ере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Na) x 0.6 x TM (kg) = (135-124) x 0.6 x 6.6 = 43.56 mmo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купни дефици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50 + 43.56 ≈ 94 mmo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K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фицит течности 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(L) x 0.4 x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ор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Ц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нц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K = 0.6 x 0.4 x 120 ≈ 29 mmo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2"/>
          <p:cNvSpPr/>
          <p:nvPr/>
        </p:nvSpPr>
        <p:spPr>
          <a:xfrm>
            <a:off x="1091160" y="838080"/>
            <a:ext cx="64490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ДНЕВНЕ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ПОТРЕБЕ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З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ВОДО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3"/>
          <p:cNvSpPr/>
          <p:nvPr/>
        </p:nvSpPr>
        <p:spPr>
          <a:xfrm>
            <a:off x="365760" y="1859040"/>
            <a:ext cx="8499960" cy="411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НОВОРОЂЕНЧЕ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60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L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/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kg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ТМ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ОДОЈЧЕ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100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L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/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kg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ТМ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ПРЕТШКОЛСКО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ДЕТЕ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1000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L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+ 50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L/kg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(10-20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kg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10-20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kg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                                  1000-1500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L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ШКОЛСКО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ДЕТЕ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        1500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L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+ 20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L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kg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&gt;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20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kg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20-50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kg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                                1500-2100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м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АДОЛЕСЦЕНТИ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         2100-3000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76040" y="764640"/>
            <a:ext cx="7024680" cy="63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94c6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ЦНС</a:t>
            </a:r>
            <a:r>
              <a:rPr b="0" lang="sr-Latn-CS" sz="3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и</a:t>
            </a:r>
            <a:r>
              <a:rPr b="0" lang="sr-Latn-CS" sz="3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хипонатремија</a:t>
            </a:r>
            <a:endParaRPr b="0" lang="en-US" sz="3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86920" y="1592280"/>
            <a:ext cx="8605800" cy="5076720"/>
          </a:xfrm>
          <a:prstGeom prst="rect">
            <a:avLst/>
          </a:prstGeom>
          <a:solidFill>
            <a:srgbClr val="ffffff"/>
          </a:solidFill>
          <a:ln w="28440">
            <a:solidFill>
              <a:srgbClr val="94c600"/>
            </a:solidFill>
            <a:miter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Агитациј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анорексиј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атаксиј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анксиозност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...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ретко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јављају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хипонатремији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едем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мозг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риликм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ад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осмолалност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штит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5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механизам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Смањен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секрециј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ADH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Смањено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ангажовањ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можданих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аквапорин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аквапорин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-4)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Излазак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осмотск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активних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честиц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из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ћелија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Механизм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регулациј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ћелијског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волумен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Механизм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рехулациј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интрацелуларн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осмолалности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Напад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ом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овезан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с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хипонатремијом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захтевају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брзо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одизањ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сеумског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3%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NaCl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до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овлачењ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тегоб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обично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довљан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ораст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5-10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mmol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Инфузиј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3%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NaCl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6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h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одиж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око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5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mmol/h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58560" y="115560"/>
            <a:ext cx="846108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94c6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Синдром</a:t>
            </a:r>
            <a:r>
              <a:rPr b="0" lang="sr-Latn-CS" sz="3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прекомерног</a:t>
            </a:r>
            <a:r>
              <a:rPr b="0" lang="sr-Latn-CS" sz="3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ослобађања</a:t>
            </a:r>
            <a:r>
              <a:rPr b="0" lang="sr-Latn-CS" sz="3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антидиуретског</a:t>
            </a:r>
            <a:r>
              <a:rPr b="0" lang="sr-Latn-CS" sz="3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хормона</a:t>
            </a:r>
            <a:r>
              <a:rPr b="0" lang="sr-Latn-CS" sz="3400" spc="-1" strike="noStrike">
                <a:solidFill>
                  <a:srgbClr val="94c600"/>
                </a:solidFill>
                <a:latin typeface="Century Gothic"/>
              </a:rPr>
              <a:t> (</a:t>
            </a: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СИАДХ</a:t>
            </a:r>
            <a:r>
              <a:rPr b="0" lang="sr-Latn-CS" sz="3400" spc="-1" strike="noStrike">
                <a:solidFill>
                  <a:srgbClr val="94c600"/>
                </a:solidFill>
                <a:latin typeface="Century Gothic"/>
              </a:rPr>
              <a:t>)</a:t>
            </a:r>
            <a:endParaRPr b="0" lang="en-US" sz="3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16000" y="1591920"/>
            <a:ext cx="8712000" cy="471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94c6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ригинал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пи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Barrter</a:t>
            </a:r>
            <a:r>
              <a:rPr b="0" lang="sr-CS" sz="2400" spc="-1" strike="noStrike">
                <a:solidFill>
                  <a:srgbClr val="3e3d2d"/>
                </a:solidFill>
                <a:latin typeface="Century Gothic"/>
              </a:rPr>
              <a:t> &amp;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chwartz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m J Med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1967.) -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Хипонатремија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хипоосмолалност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серума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необично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већа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осмолалност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урину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серумске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нормална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функција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бубрега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тироидеје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надбубрега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појачано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излучивање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урино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↑↑↑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DH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VP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р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нов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зро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ктопич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дукциј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гзоге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нос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нормал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слобађ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урохипофизе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4" name=""/>
          <p:cNvGraphicFramePr/>
          <p:nvPr/>
        </p:nvGraphicFramePr>
        <p:xfrm>
          <a:off x="0" y="7920"/>
          <a:ext cx="9144000" cy="6919920"/>
        </p:xfrm>
        <a:graphic>
          <a:graphicData uri="http://schemas.openxmlformats.org/drawingml/2006/table">
            <a:tbl>
              <a:tblPr/>
              <a:tblGrid>
                <a:gridCol w="2287440"/>
                <a:gridCol w="2392560"/>
                <a:gridCol w="2338200"/>
                <a:gridCol w="2125800"/>
              </a:tblGrid>
              <a:tr h="639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7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Тумори </a:t>
                      </a:r>
                      <a:r>
                        <a:rPr b="1" lang="sr-Latn-CS" sz="17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7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ремећаји органа грудног кош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7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ремећаји ЦНС-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7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екови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ронхогени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фекције 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TBC,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актерије, вируси..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фекција/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фламациј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denin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денокарционом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ентилација поз. притиском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вреда глав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rabinozid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уоденални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↓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итисак у левој преткомор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AH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mitriptili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денокарцином панкреаса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неумоторакс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ипоксија - исхемиј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arbiturat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09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арцином уретер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телектаза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кутна психоз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arbamazepin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4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odgkin l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стма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уморске масе / пролиферациј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olhicin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549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имом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Цистична фиброза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uillain-Barr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é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s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iuretici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кутна леукемиј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мисуротомија митралне валвул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штећења кичмене мождин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lufenazin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имфосарком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двезивање 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D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пструкција 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A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шант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fin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истиоцитни лимфом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алигнитети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диопатски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inblastin / vinkristi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47280" y="728280"/>
            <a:ext cx="7419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Дијагностички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критеријуми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за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СИАДХ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555480" y="2324160"/>
          <a:ext cx="8033040" cy="1981080"/>
        </p:xfrm>
        <a:graphic>
          <a:graphicData uri="http://schemas.openxmlformats.org/drawingml/2006/table">
            <a:tbl>
              <a:tblPr/>
              <a:tblGrid>
                <a:gridCol w="873360"/>
                <a:gridCol w="7159680"/>
              </a:tblGrid>
              <a:tr h="39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ипотона хипонатриемија</a:t>
                      </a: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</a:t>
                      </a:r>
                      <a:r>
                        <a:rPr b="0" lang="sr-R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смол</a:t>
                      </a: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.</a:t>
                      </a:r>
                      <a:r>
                        <a:rPr b="0" lang="en-US" sz="19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&lt; 280</a:t>
                      </a:r>
                      <a:r>
                        <a:rPr b="0" lang="sr-Latn-CS" sz="19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, Na (</a:t>
                      </a:r>
                      <a:r>
                        <a:rPr b="0" lang="sr-RS" sz="19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с</a:t>
                      </a:r>
                      <a:r>
                        <a:rPr b="0" lang="sr-Latn-CS" sz="19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) </a:t>
                      </a:r>
                      <a:r>
                        <a:rPr b="0" lang="en-US" sz="19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&lt; 135</a:t>
                      </a:r>
                      <a:r>
                        <a:rPr b="0" lang="sr-Latn-CS" sz="19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)</a:t>
                      </a:r>
                      <a:r>
                        <a:rPr b="0" lang="en-US" sz="19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89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смолалност урина </a:t>
                      </a: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&gt; </a:t>
                      </a:r>
                      <a:r>
                        <a:rPr b="0" lang="sr-R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смолалност серум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91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ема обољења тироидеје, надбубрега, срца и бубрег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89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ема контракције интраваскуларног простор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420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сока конц. </a:t>
                      </a: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a </a:t>
                      </a:r>
                      <a:r>
                        <a:rPr b="0" lang="sr-R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 урину </a:t>
                      </a: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&gt; 25) – </a:t>
                      </a:r>
                      <a:r>
                        <a:rPr b="0" lang="sr-R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вишена</a:t>
                      </a: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FE</a:t>
                      </a:r>
                      <a:r>
                        <a:rPr b="0" lang="sr-Latn-CS" sz="19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N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  <p:sp>
        <p:nvSpPr>
          <p:cNvPr id="567" name="Text Box 88"/>
          <p:cNvSpPr/>
          <p:nvPr/>
        </p:nvSpPr>
        <p:spPr>
          <a:xfrm>
            <a:off x="612720" y="468936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entury Gothic"/>
              </a:rPr>
              <a:t>Ефективна осмолалност или тоницитет</a:t>
            </a:r>
            <a:r>
              <a:rPr b="0" lang="sr-Latn-CS" sz="2000" spc="-1" strike="noStrike">
                <a:solidFill>
                  <a:srgbClr val="000000"/>
                </a:solidFill>
                <a:latin typeface="Century Gothic"/>
              </a:rPr>
              <a:t> = 2 x Na (mmol/L) + </a:t>
            </a:r>
            <a:r>
              <a:rPr b="0" lang="sr-RS" sz="2000" spc="-1" strike="noStrike">
                <a:solidFill>
                  <a:srgbClr val="000000"/>
                </a:solidFill>
                <a:latin typeface="Century Gothic"/>
              </a:rPr>
              <a:t>глц</a:t>
            </a:r>
            <a:r>
              <a:rPr b="0" lang="sr-Latn-CS" sz="2000" spc="-1" strike="noStrike">
                <a:solidFill>
                  <a:srgbClr val="000000"/>
                </a:solidFill>
                <a:latin typeface="Century Gothic"/>
              </a:rPr>
              <a:t> (mg/dL)/18 + </a:t>
            </a:r>
            <a:r>
              <a:rPr b="0" lang="sr-RS" sz="2000" spc="-1" strike="noStrike">
                <a:solidFill>
                  <a:srgbClr val="000000"/>
                </a:solidFill>
                <a:latin typeface="Century Gothic"/>
              </a:rPr>
              <a:t>уреа</a:t>
            </a:r>
            <a:r>
              <a:rPr b="0" lang="sr-Latn-CS" sz="2000" spc="-1" strike="noStrike">
                <a:solidFill>
                  <a:srgbClr val="000000"/>
                </a:solidFill>
                <a:latin typeface="Century Gothic"/>
              </a:rPr>
              <a:t> (mg/dL)/2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89"/>
          <p:cNvSpPr/>
          <p:nvPr/>
        </p:nvSpPr>
        <p:spPr>
          <a:xfrm>
            <a:off x="647640" y="5805360"/>
            <a:ext cx="79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90"/>
          <p:cNvSpPr/>
          <p:nvPr/>
        </p:nvSpPr>
        <p:spPr>
          <a:xfrm>
            <a:off x="792000" y="5553000"/>
            <a:ext cx="756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entury Gothic"/>
              </a:rPr>
              <a:t>глц</a:t>
            </a:r>
            <a:r>
              <a:rPr b="0" lang="sr-Latn-CS" sz="2000" spc="-1" strike="noStrike">
                <a:solidFill>
                  <a:srgbClr val="000000"/>
                </a:solidFill>
                <a:latin typeface="Century Gothic"/>
              </a:rPr>
              <a:t>        mmol x 18 = mg/dL         mg/dL x 0.055 = mmol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entury Gothic"/>
              </a:rPr>
              <a:t>уреа</a:t>
            </a:r>
            <a:r>
              <a:rPr b="0" lang="sr-Latn-CS" sz="2000" spc="-1" strike="noStrike">
                <a:solidFill>
                  <a:srgbClr val="000000"/>
                </a:solidFill>
                <a:latin typeface="Century Gothic"/>
              </a:rPr>
              <a:t>      mmol x 6 = mg/dL    </a:t>
            </a:r>
            <a:r>
              <a:rPr b="0" lang="sr-R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entury Gothic"/>
              </a:rPr>
              <a:t>     mg/dL x 0.166 = mmol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042560" y="1027080"/>
            <a:ext cx="7024680" cy="56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Терапија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СИАДХ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74360" y="2323800"/>
            <a:ext cx="781380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Лечи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нов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ремећај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граничи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но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чност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куп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нос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ечнос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реб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уд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ањ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н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лучен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о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губљен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уте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en-US" sz="2200" spc="-1" strike="noStrike">
                <a:solidFill>
                  <a:srgbClr val="3e3d2d"/>
                </a:solidFill>
                <a:latin typeface="Century Gothic"/>
              </a:rPr>
              <a:t>presiratio insensibilis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(40-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45%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треб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ви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диж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2-3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/24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h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оксицикл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-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ме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фект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DH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лудрокортизо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- </a:t>
            </a:r>
            <a:r>
              <a:rPr b="1" lang="sr-Latn-CS" sz="2400" spc="-1" strike="noStrike">
                <a:solidFill>
                  <a:srgbClr val="f3311d"/>
                </a:solidFill>
                <a:latin typeface="Century Gothic"/>
              </a:rPr>
              <a:t>!!!</a:t>
            </a:r>
            <a:r>
              <a:rPr b="1" lang="sr-Latn-C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х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покалем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ертензиј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нтагонис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DH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испита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ц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55280" y="1026720"/>
            <a:ext cx="702468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Терапијски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план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718920" y="1916280"/>
            <a:ext cx="794196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мптом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већа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0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смоларно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20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Osm/kg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хипертоним</a:t>
            </a:r>
            <a:r>
              <a:rPr b="0" lang="sr-Latn-CS" sz="2200" spc="-1" strike="noStrike" u="sng">
                <a:solidFill>
                  <a:srgbClr val="3e3d2d"/>
                </a:solidFill>
                <a:uFillTx/>
                <a:latin typeface="Century Gothic"/>
              </a:rPr>
              <a:t> 3% </a:t>
            </a:r>
            <a:r>
              <a:rPr b="0" lang="en-US" sz="2200" spc="-1" strike="noStrike" u="sng">
                <a:solidFill>
                  <a:srgbClr val="3e3d2d"/>
                </a:solidFill>
                <a:uFillTx/>
                <a:latin typeface="Century Gothic"/>
              </a:rPr>
              <a:t>NaC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орекциј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10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/kg 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 x 0.6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6 x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 =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 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ошт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 u="sng">
                <a:solidFill>
                  <a:srgbClr val="3e3d2d"/>
                </a:solidFill>
                <a:uFillTx/>
                <a:latin typeface="Century Gothic"/>
              </a:rPr>
              <a:t>има</a:t>
            </a:r>
            <a:r>
              <a:rPr b="0" lang="sr-Latn-CS" sz="2000" spc="-1" strike="noStrike" u="sng">
                <a:solidFill>
                  <a:srgbClr val="3e3d2d"/>
                </a:solidFill>
                <a:uFillTx/>
                <a:latin typeface="Century Gothic"/>
              </a:rPr>
              <a:t> 0.5</a:t>
            </a:r>
            <a:r>
              <a:rPr b="0" lang="en-US" sz="2000" spc="-1" strike="noStrike" u="sng">
                <a:solidFill>
                  <a:srgbClr val="3e3d2d"/>
                </a:solidFill>
                <a:uFillTx/>
                <a:latin typeface="Century Gothic"/>
              </a:rPr>
              <a:t> mmol Na</a:t>
            </a:r>
            <a:r>
              <a:rPr b="0" lang="sr-Latn-CS" sz="2000" spc="-1" strike="noStrike" u="sng">
                <a:solidFill>
                  <a:srgbClr val="3e3d2d"/>
                </a:solidFill>
                <a:uFillTx/>
                <a:latin typeface="Century Gothic"/>
              </a:rPr>
              <a:t>/</a:t>
            </a:r>
            <a:r>
              <a:rPr b="0" lang="en-US" sz="2000" spc="-1" strike="noStrike" u="sng">
                <a:solidFill>
                  <a:srgbClr val="3e3d2d"/>
                </a:solidFill>
                <a:uFillTx/>
                <a:latin typeface="Century Gothic"/>
              </a:rPr>
              <a:t>mL</a:t>
            </a:r>
            <a:r>
              <a:rPr b="0" lang="sr-Latn-CS" sz="20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000" spc="-1" strike="noStrike" u="sng">
                <a:solidFill>
                  <a:srgbClr val="3e3d2d"/>
                </a:solidFill>
                <a:uFillTx/>
                <a:latin typeface="Century Gothic"/>
              </a:rPr>
              <a:t>у</a:t>
            </a:r>
            <a:r>
              <a:rPr b="0" lang="sr-Latn-CS" sz="2000" spc="-1" strike="noStrike" u="sng">
                <a:solidFill>
                  <a:srgbClr val="3e3d2d"/>
                </a:solidFill>
                <a:uFillTx/>
                <a:latin typeface="Century Gothic"/>
              </a:rPr>
              <a:t> 3% </a:t>
            </a:r>
            <a:r>
              <a:rPr b="0" lang="en-US" sz="2000" spc="-1" strike="noStrike" u="sng">
                <a:solidFill>
                  <a:srgbClr val="3e3d2d"/>
                </a:solidFill>
                <a:uFillTx/>
                <a:latin typeface="Century Gothic"/>
              </a:rPr>
              <a:t>NaCl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нд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2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 mL/mol 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x 6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 =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лтернативн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2-4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L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h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б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овећал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2-4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/L/h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Фуросемид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0.5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g/kg i.v.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макс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. 20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g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 –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овећав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злучивањ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лбодн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овећав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еуму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34560" y="1027080"/>
            <a:ext cx="702468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Терапијски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план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63640" y="1989000"/>
            <a:ext cx="7632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ма симпто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0.5-2 mL/kg TM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ећа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 серуму за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0.5-2 mmol/L/h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ко ј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 серум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123-125 mmol/L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огуће је дати изотони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NaC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мптоматски или асимптоматски, свака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!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атити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 серуму 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2-3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ат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!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 треба повећати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 серуму за више 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10 mmol/L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24 h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55480" y="1026720"/>
            <a:ext cx="8105760" cy="85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Хипернатремијска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дехидрација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042560" y="2324160"/>
            <a:ext cx="7309080" cy="39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ернатрем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&gt; 150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/L 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адекват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докнад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т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адат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ве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ише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фектив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молалнос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хидра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ћелиј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штит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еханизм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Луче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нцентрован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ADH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Жеђ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онатус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ојча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еб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етљив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б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елик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треб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ом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18760" y="691920"/>
            <a:ext cx="8142120" cy="67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94c600"/>
                </a:solidFill>
                <a:latin typeface="Century Gothic"/>
              </a:rPr>
              <a:t>Механизми</a:t>
            </a:r>
            <a:r>
              <a:rPr b="1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94c600"/>
                </a:solidFill>
                <a:latin typeface="Century Gothic"/>
              </a:rPr>
              <a:t>који</a:t>
            </a:r>
            <a:r>
              <a:rPr b="1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94c600"/>
                </a:solidFill>
                <a:latin typeface="Century Gothic"/>
              </a:rPr>
              <a:t>штите</a:t>
            </a:r>
            <a:r>
              <a:rPr b="1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94c600"/>
                </a:solidFill>
                <a:latin typeface="Century Gothic"/>
              </a:rPr>
              <a:t>од</a:t>
            </a:r>
            <a:r>
              <a:rPr b="1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94c600"/>
                </a:solidFill>
                <a:latin typeface="Century Gothic"/>
              </a:rPr>
              <a:t>хипернатремије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grpSp>
        <p:nvGrpSpPr>
          <p:cNvPr id="579" name="Organization Chart 45"/>
          <p:cNvGrpSpPr/>
          <p:nvPr/>
        </p:nvGrpSpPr>
        <p:grpSpPr>
          <a:xfrm>
            <a:off x="647640" y="1484280"/>
            <a:ext cx="7596360" cy="4583160"/>
            <a:chOff x="647640" y="1484280"/>
            <a:chExt cx="7596360" cy="4583160"/>
          </a:xfrm>
        </p:grpSpPr>
        <p:sp>
          <p:nvSpPr>
            <p:cNvPr id="580" name="AutoShape 67"/>
            <p:cNvSpPr/>
            <p:nvPr/>
          </p:nvSpPr>
          <p:spPr>
            <a:xfrm rot="10800000">
              <a:off x="647640" y="2565000"/>
              <a:ext cx="2881440" cy="3421080"/>
            </a:xfrm>
            <a:custGeom>
              <a:avLst/>
              <a:gdLst>
                <a:gd name="textAreaLeft" fmla="*/ 385920 w 2881440"/>
                <a:gd name="textAreaRight" fmla="*/ 2495520 w 2881440"/>
                <a:gd name="textAreaTop" fmla="*/ 598680 h 3421080"/>
                <a:gd name="textAreaBottom" fmla="*/ 2480400 h 342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noFill/>
            <a:ln w="41400">
              <a:solidFill>
                <a:srgbClr val="caf2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1" name="_s3077"/>
            <p:cNvCxnSpPr/>
            <p:nvPr/>
          </p:nvCxnSpPr>
          <p:spPr>
            <a:xfrm flipV="1" rot="16200000">
              <a:off x="5615640" y="5012640"/>
              <a:ext cx="459720" cy="27720"/>
            </a:xfrm>
            <a:prstGeom prst="bentConnector3">
              <a:avLst>
                <a:gd name="adj1" fmla="val -24843"/>
              </a:avLst>
            </a:prstGeom>
            <a:ln w="38160">
              <a:solidFill>
                <a:srgbClr val="d5e999"/>
              </a:solidFill>
              <a:miter/>
            </a:ln>
          </p:spPr>
        </p:cxnSp>
        <p:cxnSp>
          <p:nvCxnSpPr>
            <p:cNvPr id="582" name="_s3078"/>
            <p:cNvCxnSpPr>
              <a:stCxn id="583" idx="0"/>
              <a:endCxn id="584" idx="2"/>
            </p:cNvCxnSpPr>
            <p:nvPr/>
          </p:nvCxnSpPr>
          <p:spPr>
            <a:xfrm flipV="1" rot="16200000">
              <a:off x="5606640" y="3813840"/>
              <a:ext cx="500760" cy="8640"/>
            </a:xfrm>
            <a:prstGeom prst="bentConnector3">
              <a:avLst>
                <a:gd name="adj1" fmla="val 22805"/>
              </a:avLst>
            </a:prstGeom>
            <a:ln w="38160">
              <a:solidFill>
                <a:srgbClr val="d5e999"/>
              </a:solidFill>
              <a:miter/>
            </a:ln>
          </p:spPr>
        </p:cxnSp>
        <p:cxnSp>
          <p:nvCxnSpPr>
            <p:cNvPr id="585" name="_s3079"/>
            <p:cNvCxnSpPr>
              <a:stCxn id="586" idx="0"/>
              <a:endCxn id="586" idx="0"/>
            </p:cNvCxnSpPr>
            <p:nvPr/>
          </p:nvCxnSpPr>
          <p:spPr>
            <a:xfrm flipH="1" rot="16200000">
              <a:off x="2346120" y="4037400"/>
              <a:ext cx="2520" cy="2160"/>
            </a:xfrm>
            <a:prstGeom prst="bentConnector3">
              <a:avLst>
                <a:gd name="adj1" fmla="val -7200000"/>
              </a:avLst>
            </a:prstGeom>
            <a:ln w="38160">
              <a:solidFill>
                <a:srgbClr val="d5e999"/>
              </a:solidFill>
              <a:miter/>
            </a:ln>
          </p:spPr>
        </p:cxnSp>
        <p:cxnSp>
          <p:nvCxnSpPr>
            <p:cNvPr id="587" name="_s3080"/>
            <p:cNvCxnSpPr>
              <a:stCxn id="584" idx="0"/>
              <a:endCxn id="588" idx="2"/>
            </p:cNvCxnSpPr>
            <p:nvPr/>
          </p:nvCxnSpPr>
          <p:spPr>
            <a:xfrm flipV="1" rot="16200000">
              <a:off x="5585760" y="2545560"/>
              <a:ext cx="516600" cy="18360"/>
            </a:xfrm>
            <a:prstGeom prst="bentConnector3">
              <a:avLst>
                <a:gd name="adj1" fmla="val 22105"/>
              </a:avLst>
            </a:prstGeom>
            <a:ln w="38160">
              <a:solidFill>
                <a:srgbClr val="94c600"/>
              </a:solidFill>
              <a:miter/>
            </a:ln>
          </p:spPr>
        </p:cxnSp>
        <p:sp>
          <p:nvSpPr>
            <p:cNvPr id="588" name="_s3081"/>
            <p:cNvSpPr/>
            <p:nvPr/>
          </p:nvSpPr>
          <p:spPr>
            <a:xfrm>
              <a:off x="3425760" y="1484280"/>
              <a:ext cx="4818240" cy="81288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HIPERNATREMI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(hiperosmolarnost) ili pa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efektivnog cirkulišuceg volume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_s3082"/>
            <p:cNvSpPr/>
            <p:nvPr/>
          </p:nvSpPr>
          <p:spPr>
            <a:xfrm>
              <a:off x="3780000" y="2813040"/>
              <a:ext cx="4144680" cy="75564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Žeđ i ↑ sekrecija ADH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(osmoreceptori i baroreceptori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_s3083"/>
            <p:cNvSpPr/>
            <p:nvPr/>
          </p:nvSpPr>
          <p:spPr>
            <a:xfrm>
              <a:off x="982800" y="4038480"/>
              <a:ext cx="2725560" cy="8668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Povratna spreg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smanjuje osećaj žeđi i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sekreciju AD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_s3084"/>
            <p:cNvSpPr/>
            <p:nvPr/>
          </p:nvSpPr>
          <p:spPr>
            <a:xfrm>
              <a:off x="4125960" y="4068720"/>
              <a:ext cx="3470400" cy="80028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entury Gothic"/>
                </a:rPr>
                <a:t>↑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unos v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entury Gothic"/>
                </a:rPr>
                <a:t>↓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smanjeno izlučivanj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preko bubreg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_s3085"/>
            <p:cNvSpPr/>
            <p:nvPr/>
          </p:nvSpPr>
          <p:spPr>
            <a:xfrm>
              <a:off x="3941640" y="5229360"/>
              <a:ext cx="3907080" cy="83808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Redukcija osmolalnosti plaz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i povećanje efektivn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cirkulišućeg volume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61"/>
            <p:cNvSpPr/>
            <p:nvPr/>
          </p:nvSpPr>
          <p:spPr>
            <a:xfrm>
              <a:off x="5832360" y="2276640"/>
              <a:ext cx="1800" cy="536400"/>
            </a:xfrm>
            <a:prstGeom prst="line">
              <a:avLst/>
            </a:prstGeom>
            <a:ln w="50760">
              <a:solidFill>
                <a:srgbClr val="94c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63"/>
            <p:cNvSpPr/>
            <p:nvPr/>
          </p:nvSpPr>
          <p:spPr>
            <a:xfrm>
              <a:off x="5832360" y="4870440"/>
              <a:ext cx="1800" cy="395280"/>
            </a:xfrm>
            <a:prstGeom prst="line">
              <a:avLst/>
            </a:prstGeom>
            <a:ln w="50760">
              <a:solidFill>
                <a:srgbClr val="94c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62"/>
            <p:cNvSpPr/>
            <p:nvPr/>
          </p:nvSpPr>
          <p:spPr>
            <a:xfrm>
              <a:off x="5867280" y="3573360"/>
              <a:ext cx="1800" cy="503280"/>
            </a:xfrm>
            <a:prstGeom prst="line">
              <a:avLst/>
            </a:prstGeom>
            <a:ln w="50760">
              <a:solidFill>
                <a:srgbClr val="94c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Rectangle 64"/>
            <p:cNvSpPr/>
            <p:nvPr/>
          </p:nvSpPr>
          <p:spPr>
            <a:xfrm>
              <a:off x="2254320" y="3860640"/>
              <a:ext cx="122040" cy="1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18760" y="1027080"/>
            <a:ext cx="814212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Симптоми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хипернатремијске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дехидрације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55480" y="1895400"/>
            <a:ext cx="810576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ипч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имптом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хидраци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бич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достају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Углавном</a:t>
            </a:r>
            <a:r>
              <a:rPr b="0" lang="sr-Latn-CS" sz="2200" spc="-1" strike="noStrike" u="sng">
                <a:solidFill>
                  <a:srgbClr val="3e3d2d"/>
                </a:solidFill>
                <a:uFillTx/>
                <a:latin typeface="Century Gothic"/>
              </a:rPr>
              <a:t>  </a:t>
            </a: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неуролошк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ритабилно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рискав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лач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пад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летарг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жеђ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мење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ентал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татус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м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фатални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лучајеви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нтракранијал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емораг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ромбо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нфарк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б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межуравањ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озг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чем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оза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ва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енинге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растеж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ене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Неуролошке</a:t>
            </a:r>
            <a:r>
              <a:rPr b="0" lang="sr-Latn-CS" sz="22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секвеле</a:t>
            </a:r>
            <a:r>
              <a:rPr b="0" lang="sr-Latn-CS" sz="22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се</a:t>
            </a:r>
            <a:r>
              <a:rPr b="0" lang="sr-Latn-CS" sz="22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јављају</a:t>
            </a:r>
            <a:r>
              <a:rPr b="0" lang="sr-Latn-CS" sz="22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у</a:t>
            </a:r>
            <a:r>
              <a:rPr b="0" lang="sr-Latn-CS" sz="2200" spc="-1" strike="noStrike" u="sng">
                <a:solidFill>
                  <a:srgbClr val="3e3d2d"/>
                </a:solidFill>
                <a:uFillTx/>
                <a:latin typeface="Century Gothic"/>
              </a:rPr>
              <a:t> 11-15% </a:t>
            </a: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одојчади</a:t>
            </a:r>
            <a:r>
              <a:rPr b="0" lang="sr-Latn-CS" sz="22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које</a:t>
            </a:r>
            <a:r>
              <a:rPr b="0" lang="sr-Latn-CS" sz="22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преживе</a:t>
            </a:r>
            <a:r>
              <a:rPr b="0" lang="sr-Latn-CS" sz="22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хипонатремијску</a:t>
            </a:r>
            <a:r>
              <a:rPr b="0" lang="sr-Latn-CS" sz="22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дехидрацију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956360" cy="10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94c600"/>
                </a:solidFill>
                <a:latin typeface="Century Gothic"/>
              </a:rPr>
              <a:t>Дневне</a:t>
            </a:r>
            <a:r>
              <a:rPr b="0" lang="sr-Latn-CS" sz="30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000" spc="-1" strike="noStrike">
                <a:solidFill>
                  <a:srgbClr val="94c600"/>
                </a:solidFill>
                <a:latin typeface="Century Gothic"/>
              </a:rPr>
              <a:t>потребе</a:t>
            </a:r>
            <a:r>
              <a:rPr b="0" lang="sr-Latn-CS" sz="30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000" spc="-1" strike="noStrike">
                <a:solidFill>
                  <a:srgbClr val="94c600"/>
                </a:solidFill>
                <a:latin typeface="Century Gothic"/>
              </a:rPr>
              <a:t>калорија</a:t>
            </a:r>
            <a:r>
              <a:rPr b="0" lang="sr-Latn-CS" sz="3000" spc="-1" strike="noStrike">
                <a:solidFill>
                  <a:srgbClr val="94c600"/>
                </a:solidFill>
                <a:latin typeface="Century Gothic"/>
              </a:rPr>
              <a:t>, </a:t>
            </a:r>
            <a:r>
              <a:rPr b="0" lang="sr-RS" sz="3000" spc="-1" strike="noStrike">
                <a:solidFill>
                  <a:srgbClr val="94c600"/>
                </a:solidFill>
                <a:latin typeface="Century Gothic"/>
              </a:rPr>
              <a:t>воде</a:t>
            </a:r>
            <a:r>
              <a:rPr b="0" lang="sr-Latn-CS" sz="30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000" spc="-1" strike="noStrike">
                <a:solidFill>
                  <a:srgbClr val="94c600"/>
                </a:solidFill>
                <a:latin typeface="Century Gothic"/>
              </a:rPr>
              <a:t>и</a:t>
            </a:r>
            <a:r>
              <a:rPr b="0" lang="sr-Latn-CS" sz="30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000" spc="-1" strike="noStrike">
                <a:solidFill>
                  <a:srgbClr val="94c600"/>
                </a:solidFill>
                <a:latin typeface="Century Gothic"/>
              </a:rPr>
              <a:t>електролита</a:t>
            </a:r>
            <a:endParaRPr b="0" lang="en-US" sz="3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108000" y="1673280"/>
          <a:ext cx="8964720" cy="4314600"/>
        </p:xfrm>
        <a:graphic>
          <a:graphicData uri="http://schemas.openxmlformats.org/drawingml/2006/table">
            <a:tbl>
              <a:tblPr/>
              <a:tblGrid>
                <a:gridCol w="1171440"/>
                <a:gridCol w="1474920"/>
                <a:gridCol w="1415880"/>
                <a:gridCol w="1755720"/>
                <a:gridCol w="1743120"/>
                <a:gridCol w="1403640"/>
              </a:tblGrid>
              <a:tr h="643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TM (k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Калорије</a:t>
                      </a: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1048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 mmol /100 mL H</a:t>
                      </a:r>
                      <a:r>
                        <a:rPr b="0" lang="sr-Latn-CS" sz="20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 mmol /100 mL H</a:t>
                      </a:r>
                      <a:r>
                        <a:rPr b="0" lang="sr-Latn-CS" sz="20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 mmol /100 mL H</a:t>
                      </a:r>
                      <a:r>
                        <a:rPr b="0" lang="sr-Latn-CS" sz="20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-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 + 50 cal/kg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а сваки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kg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еко  1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 + 50 mL/kg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а сваки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kg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еко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 mmol /100 mL H</a:t>
                      </a:r>
                      <a:r>
                        <a:rPr b="0" lang="sr-Latn-CS" sz="20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 mmol /100 mL H</a:t>
                      </a:r>
                      <a:r>
                        <a:rPr b="0" lang="sr-Latn-CS" sz="20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 mmol /100 mL H</a:t>
                      </a:r>
                      <a:r>
                        <a:rPr b="0" lang="sr-Latn-CS" sz="20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&gt;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 + 20 cal/kg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а сваки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kg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еко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 + 20 mL/kg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а сваки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kg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еко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 mmol /100 mL H</a:t>
                      </a:r>
                      <a:r>
                        <a:rPr b="0" lang="sr-Latn-CS" sz="20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 mmol /100 mL H</a:t>
                      </a:r>
                      <a:r>
                        <a:rPr b="0" lang="sr-Latn-CS" sz="20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 mmol /100 mL H</a:t>
                      </a:r>
                      <a:r>
                        <a:rPr b="0" lang="sr-Latn-CS" sz="20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7360" y="188640"/>
            <a:ext cx="890928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3e3d2d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94c600"/>
                </a:solidFill>
                <a:latin typeface="Century Gothic"/>
              </a:rPr>
              <a:t>Дијагноза</a:t>
            </a:r>
            <a:r>
              <a:rPr b="0" lang="sr-Latn-CS" sz="2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94c600"/>
                </a:solidFill>
                <a:latin typeface="Century Gothic"/>
              </a:rPr>
              <a:t>и</a:t>
            </a:r>
            <a:r>
              <a:rPr b="0" lang="sr-Latn-CS" sz="2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94c600"/>
                </a:solidFill>
                <a:latin typeface="Century Gothic"/>
              </a:rPr>
              <a:t>узроци</a:t>
            </a:r>
            <a:r>
              <a:rPr b="0" lang="sr-Latn-CS" sz="2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94c600"/>
                </a:solidFill>
                <a:latin typeface="Century Gothic"/>
              </a:rPr>
              <a:t>хипонатремијске</a:t>
            </a:r>
            <a:r>
              <a:rPr b="0" lang="sr-Latn-CS" sz="2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94c600"/>
                </a:solidFill>
                <a:latin typeface="Century Gothic"/>
              </a:rPr>
              <a:t>дехидрације</a:t>
            </a:r>
            <a:endParaRPr b="0" lang="en-US" sz="2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611000" y="2023920"/>
            <a:ext cx="6777000" cy="8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Uzroci i manifestacije hipernatremij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Bubrežni ili nebubrežni gubitak vod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0" y="944640"/>
          <a:ext cx="9144000" cy="5843520"/>
        </p:xfrm>
        <a:graphic>
          <a:graphicData uri="http://schemas.openxmlformats.org/drawingml/2006/table">
            <a:tbl>
              <a:tblPr/>
              <a:tblGrid>
                <a:gridCol w="1763640"/>
                <a:gridCol w="1836720"/>
                <a:gridCol w="1886040"/>
                <a:gridCol w="1893960"/>
                <a:gridCol w="1763640"/>
              </a:tblGrid>
              <a:tr h="6404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Губитак хипотоне теч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Губитак само воде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[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a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]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орм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птерећење натријум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2462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убитак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Na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еко бубрега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: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смотска диуреза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,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нтрастна средства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,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схрана, диуретиц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ебубрежни губитак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Na: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И губици због дијареје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,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враћања, дренажа ГИТ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;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еритонеална дијализа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NN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 одојчад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ебубрежни губитак воде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: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еко коже и дисајних путева 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–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розница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,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сока спољашња температур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убитак воде преко бубрега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: Diabetes insipidus, Hypodipsia-Hypernatremia S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aHCO</a:t>
                      </a:r>
                      <a:r>
                        <a:rPr b="0" lang="sr-Latn-CS" sz="17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, NaCl,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ипертони дијализат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, Cushing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’s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Sy,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гестија морске воде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,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имарни хипералдостеронизам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1425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иска осмолалност урина,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сок 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a (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,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↑ 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E</a:t>
                      </a:r>
                      <a:r>
                        <a:rPr b="0" lang="sr-Latn-CS" sz="17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N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сока осмолалност урин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изак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Na (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,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↓ 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E</a:t>
                      </a:r>
                      <a:r>
                        <a:rPr b="0" lang="sr-Latn-CS" sz="17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N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сока осмолалност урин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иска осмолалност урин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зо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ли хиперосмоларни урин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соик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Na (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,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↑ 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E</a:t>
                      </a:r>
                      <a:r>
                        <a:rPr b="0" lang="sr-Latn-CS" sz="17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N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164916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зотони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NaCl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о постизања довољног интраваскуларног волумен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%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глукоза и лечење основног поремећај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ечити основни поремећај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,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лим. 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a,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фуросемид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,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ијализ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11280" y="1026720"/>
            <a:ext cx="7456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000" spc="-1" strike="noStrike">
                <a:solidFill>
                  <a:srgbClr val="f3311d"/>
                </a:solidFill>
                <a:latin typeface="Century Gothic"/>
              </a:rPr>
              <a:t>Важно</a:t>
            </a:r>
            <a:r>
              <a:rPr b="1" i="1" lang="sr-Latn-CS" sz="4000" spc="-1" strike="noStrike">
                <a:solidFill>
                  <a:srgbClr val="f3311d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19280" y="2323800"/>
            <a:ext cx="7705440" cy="3508200"/>
          </a:xfrm>
          <a:prstGeom prst="rect">
            <a:avLst/>
          </a:prstGeom>
          <a:solidFill>
            <a:srgbClr val="f3311d"/>
          </a:solidFill>
          <a:ln w="0">
            <a:noFill/>
          </a:ln>
        </p:spPr>
        <p:txBody>
          <a:bodyPr anchor="t">
            <a:normAutofit/>
          </a:bodyPr>
          <a:p>
            <a:pPr marL="343080" indent="-27324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6000"/>
              <a:buFont typeface="Century Gothic"/>
              <a:buChar char="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Терапија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хипернатремијск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дехидрациј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ј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надокнада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једнаким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волуменом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на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сат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током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најмањ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48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сати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уз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често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праћењ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[N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]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(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на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2-3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h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6000"/>
              <a:buFont typeface="Century Gothic"/>
              <a:buChar char="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[N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]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серуму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Н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СМ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да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падн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за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виш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од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0.5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mol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h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или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за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виш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од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10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mol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/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дан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01640" y="1026720"/>
            <a:ext cx="795960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Терапиј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хипернатремијске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дехидрације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34920" y="2324160"/>
            <a:ext cx="7653600" cy="38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Циљев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дентификова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снов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зрок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мањ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љ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докнад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тврди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ктуел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лумен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зе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бзир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изиолошк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убитк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ијаре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лиуриј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216000" y="189000"/>
            <a:ext cx="8748720" cy="64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коли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з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ернатреми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стој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кстрацелурарн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луме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реб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докнад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ез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бзир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нцентраци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нцентраци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нижава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степе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де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озг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!!!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рачунав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фицит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ернатремиј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ТВ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{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(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мере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жеље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 /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жеље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}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ТВ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куп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елес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 = 0.6 x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вих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24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h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докнад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физиолошк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убитк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+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невн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требе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коли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ернатрем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следиц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чист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убит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ацијен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уволемича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– 5%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лукоз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коли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ернатрем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стал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24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h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р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рекц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ос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ризи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стана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де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озг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зро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централ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Diabetes insipidus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нал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ADH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ернатрем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следиц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одат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лиминиса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вање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иурети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ијализо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штеће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убрег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Arial"/>
              </a:rPr>
              <a:t>Терапијски</a:t>
            </a:r>
            <a:r>
              <a:rPr b="0" lang="sr-Latn-CS" sz="36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Arial"/>
              </a:rPr>
              <a:t>план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042560" y="1988640"/>
            <a:ext cx="73818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Три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фазе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Акутна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фаза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–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изотони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Arial"/>
              </a:rPr>
              <a:t>NaC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Фаза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надокнаде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– 24</a:t>
            </a:r>
            <a:r>
              <a:rPr b="0" lang="en-US" sz="2200" spc="-1" strike="noStrike">
                <a:solidFill>
                  <a:srgbClr val="3e3d2d"/>
                </a:solidFill>
                <a:latin typeface="Arial"/>
              </a:rPr>
              <a:t>h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или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више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уколико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постоје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губици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који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нису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кориговани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током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првог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дан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Фаза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одржавања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–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до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кућног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лечењ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Хиперосмоларност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стимулише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стварање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идиогених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осмола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ћелијама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мозга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 –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таурин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глутамат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глутамин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уреа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инозитол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Одржање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осмотског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еквилибријум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Сувише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брз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пад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осмолалности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&gt; </a:t>
            </a:r>
            <a:r>
              <a:rPr b="0" i="1" lang="sr-RS" sz="2200" spc="-1" strike="noStrike" u="sng">
                <a:solidFill>
                  <a:srgbClr val="3e3d2d"/>
                </a:solidFill>
                <a:uFillTx/>
                <a:latin typeface="Arial"/>
              </a:rPr>
              <a:t>едем</a:t>
            </a:r>
            <a:r>
              <a:rPr b="0" i="1" lang="sr-Latn-CS" sz="2200" spc="-1" strike="noStrike" u="sng">
                <a:solidFill>
                  <a:srgbClr val="3e3d2d"/>
                </a:solidFill>
                <a:uFillTx/>
                <a:latin typeface="Arial"/>
              </a:rPr>
              <a:t> </a:t>
            </a:r>
            <a:r>
              <a:rPr b="0" i="1" lang="sr-RS" sz="2200" spc="-1" strike="noStrike" u="sng">
                <a:solidFill>
                  <a:srgbClr val="3e3d2d"/>
                </a:solidFill>
                <a:uFillTx/>
                <a:latin typeface="Arial"/>
              </a:rPr>
              <a:t>мозг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78960" y="1027080"/>
            <a:ext cx="7024680" cy="56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Arial"/>
              </a:rPr>
              <a:t>Терапијски</a:t>
            </a:r>
            <a:r>
              <a:rPr b="0" lang="sr-Latn-CS" sz="36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Arial"/>
              </a:rPr>
              <a:t>план</a:t>
            </a:r>
            <a:r>
              <a:rPr b="0" lang="sr-Latn-CS" sz="3600" spc="-1" strike="noStrike">
                <a:solidFill>
                  <a:srgbClr val="94c600"/>
                </a:solidFill>
                <a:latin typeface="Arial"/>
              </a:rPr>
              <a:t> – </a:t>
            </a:r>
            <a:r>
              <a:rPr b="0" lang="sr-RS" sz="3600" spc="-1" strike="noStrike">
                <a:solidFill>
                  <a:srgbClr val="94c600"/>
                </a:solidFill>
                <a:latin typeface="Arial"/>
              </a:rPr>
              <a:t>акутна</a:t>
            </a:r>
            <a:r>
              <a:rPr b="0" lang="sr-Latn-CS" sz="36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Arial"/>
              </a:rPr>
              <a:t>фаза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47280" y="1916280"/>
            <a:ext cx="78850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то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нац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начај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перфуз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тензиј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а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ото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aCl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5%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лбум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ингер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лактат 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лазм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784836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Терапијски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план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–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фаз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надокнаде</a:t>
            </a:r>
            <a:br>
              <a:rPr sz="3600"/>
            </a:b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-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дневне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потребе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-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76000" y="2023560"/>
            <a:ext cx="72435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докнади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+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нев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треб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пор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рек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нижава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иш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0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/дан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lt; 165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ригова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2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gt; 165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ригова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3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ажљив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аће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нев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треб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100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L/kg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р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3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/100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р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2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/100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р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92200" y="701280"/>
            <a:ext cx="7996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Терапијски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план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–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фаз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надокнаде</a:t>
            </a:r>
            <a:br>
              <a:rPr sz="3200"/>
            </a:b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-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надокнад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дефицит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-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719280" y="1989000"/>
            <a:ext cx="781344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цидобаз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ремећај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бич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ла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етаболич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цидо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хте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икарбонат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и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тој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штеће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ки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шо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хидра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&gt;15%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абел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чун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фици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250920" y="4113360"/>
          <a:ext cx="8642160" cy="2619360"/>
        </p:xfrm>
        <a:graphic>
          <a:graphicData uri="http://schemas.openxmlformats.org/drawingml/2006/table">
            <a:tbl>
              <a:tblPr/>
              <a:tblGrid>
                <a:gridCol w="2495520"/>
                <a:gridCol w="2117520"/>
                <a:gridCol w="2008440"/>
                <a:gridCol w="2020680"/>
              </a:tblGrid>
              <a:tr h="466560"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Тип дехидрац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4c6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94c600"/>
                      </a:solidFill>
                    </a:lnT>
                    <a:lnB w="18720">
                      <a:solidFill>
                        <a:srgbClr val="caf278"/>
                      </a:solidFill>
                    </a:lnB>
                    <a:solidFill>
                      <a:srgbClr val="ffe0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Вода</a:t>
                      </a: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 (mL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94c600"/>
                      </a:solidFill>
                    </a:lnT>
                    <a:lnB w="18720">
                      <a:solidFill>
                        <a:srgbClr val="caf278"/>
                      </a:solidFill>
                    </a:lnB>
                    <a:solidFill>
                      <a:srgbClr val="ffe0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Na (mmol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94c600"/>
                      </a:solidFill>
                    </a:lnT>
                    <a:lnB w="18720">
                      <a:solidFill>
                        <a:srgbClr val="caf278"/>
                      </a:solidFill>
                    </a:lnB>
                    <a:solidFill>
                      <a:srgbClr val="ffe0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K (mmol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94c600"/>
                      </a:solidFill>
                    </a:lnR>
                    <a:lnT w="18720">
                      <a:solidFill>
                        <a:srgbClr val="94c600"/>
                      </a:solidFill>
                    </a:lnT>
                    <a:lnB w="18720">
                      <a:solidFill>
                        <a:srgbClr val="caf278"/>
                      </a:solidFill>
                    </a:lnB>
                    <a:solidFill>
                      <a:srgbClr val="ffe0bd"/>
                    </a:solidFill>
                  </a:tcPr>
                </a:tc>
              </a:tr>
              <a:tr h="757800"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изонатермиј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[</a:t>
                      </a: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Na</a:t>
                      </a:r>
                      <a:r>
                        <a:rPr b="0" lang="en-U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]</a:t>
                      </a: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 130-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4c6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af278"/>
                      </a:solidFill>
                    </a:lnT>
                    <a:lnB w="18720">
                      <a:solidFill>
                        <a:srgbClr val="caf27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af278"/>
                      </a:solidFill>
                    </a:lnT>
                    <a:lnB w="18720">
                      <a:solidFill>
                        <a:srgbClr val="caf27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af278"/>
                      </a:solidFill>
                    </a:lnT>
                    <a:lnB w="18720">
                      <a:solidFill>
                        <a:srgbClr val="caf27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94c600"/>
                      </a:solidFill>
                    </a:lnR>
                    <a:lnT w="18720">
                      <a:solidFill>
                        <a:srgbClr val="caf278"/>
                      </a:solidFill>
                    </a:lnT>
                    <a:lnB w="18720">
                      <a:solidFill>
                        <a:srgbClr val="caf27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7680"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Хипонатремиј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[</a:t>
                      </a: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Na</a:t>
                      </a:r>
                      <a:r>
                        <a:rPr b="0" lang="en-U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]</a:t>
                      </a: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 &lt; 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4c6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af278"/>
                      </a:solidFill>
                    </a:lnT>
                    <a:lnB w="18720">
                      <a:solidFill>
                        <a:srgbClr val="caf27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af278"/>
                      </a:solidFill>
                    </a:lnT>
                    <a:lnB w="18720">
                      <a:solidFill>
                        <a:srgbClr val="caf27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10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af278"/>
                      </a:solidFill>
                    </a:lnT>
                    <a:lnB w="18720">
                      <a:solidFill>
                        <a:srgbClr val="caf27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94c600"/>
                      </a:solidFill>
                    </a:lnR>
                    <a:lnT w="18720">
                      <a:solidFill>
                        <a:srgbClr val="caf278"/>
                      </a:solidFill>
                    </a:lnT>
                    <a:lnB w="18720">
                      <a:solidFill>
                        <a:srgbClr val="caf27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7680"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Хипернатремиј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[</a:t>
                      </a: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Na</a:t>
                      </a:r>
                      <a:r>
                        <a:rPr b="0" lang="en-U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]</a:t>
                      </a: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 &gt;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4c6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af278"/>
                      </a:solidFill>
                    </a:lnT>
                    <a:lnB w="18720">
                      <a:solidFill>
                        <a:srgbClr val="94c600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af278"/>
                      </a:solidFill>
                    </a:lnT>
                    <a:lnB w="18720">
                      <a:solidFill>
                        <a:srgbClr val="94c600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af278"/>
                      </a:solidFill>
                    </a:lnT>
                    <a:lnB w="18720">
                      <a:solidFill>
                        <a:srgbClr val="94c600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94c600"/>
                      </a:solidFill>
                    </a:lnR>
                    <a:lnT w="18720">
                      <a:solidFill>
                        <a:srgbClr val="caf278"/>
                      </a:solidFill>
                    </a:lnT>
                    <a:lnB w="18720">
                      <a:solidFill>
                        <a:srgbClr val="94c600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  <p:sp>
        <p:nvSpPr>
          <p:cNvPr id="613" name="Rectangle 32"/>
          <p:cNvSpPr/>
          <p:nvPr/>
        </p:nvSpPr>
        <p:spPr>
          <a:xfrm>
            <a:off x="8450280" y="5950080"/>
            <a:ext cx="5061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3311d"/>
                </a:solidFill>
                <a:latin typeface="Wingdings 2"/>
                <a:ea typeface="Wingdings 2"/>
              </a:rPr>
              <a:t>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28200" y="764640"/>
            <a:ext cx="7959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Терапијски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план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–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фаз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надокнаде</a:t>
            </a:r>
            <a:br>
              <a:rPr sz="3200"/>
            </a:b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-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надокнад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дефицит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-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91640" y="2324160"/>
            <a:ext cx="786924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=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олес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ктуел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 x 100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= 4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олес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= 2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олес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бор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чнос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5%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лук.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+ 1/4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отон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aC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(0.2%)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ојч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30-40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 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/2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отоног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NaCl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(0.45%)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т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+ 20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KC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једначено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рзином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91840" y="799920"/>
            <a:ext cx="7475400" cy="7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Случај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???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01280" y="1844640"/>
            <a:ext cx="79232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Женс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ојч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тар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6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есец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намне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ебрил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4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40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ºC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нфек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орњ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исајн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уте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лед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в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оћ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ије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раћ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тк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толиц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б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Ф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чнос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а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ије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д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окр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елен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тату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глед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их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око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глед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здражљив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лузниц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лаг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ув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ж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стас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85/58 mmHg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39ºC, R 40/min,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 175 /min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7.5 kg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2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дељ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8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.4 kg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74" dur="1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af278"/>
                                      </p:to>
                                    </p:animClr>
                                    <p:animClr clrSpc="rgb">
                                      <p:cBhvr>
                                        <p:cTn id="75" dur="1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af278"/>
                                      </p:to>
                                    </p:animClr>
                                    <p:set>
                                      <p:cBhvr>
                                        <p:cTn id="76" dur="1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990720" y="2225520"/>
            <a:ext cx="7086600" cy="204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БИЛАНС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ВОДЕ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УНОС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+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ИЗЛУЧИВАЊЕ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1042920" y="1449360"/>
            <a:ext cx="7274160" cy="33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Лаборатор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Na 162 mmol/L, Cl 126 mmol/L, K 4 mmol/L HCO</a:t>
            </a:r>
            <a:r>
              <a:rPr b="0" lang="sr-Latn-CS" sz="2200" spc="-1" strike="noStrike" baseline="-25000">
                <a:solidFill>
                  <a:srgbClr val="3e3d2d"/>
                </a:solidFill>
                <a:latin typeface="Century Gothic"/>
              </a:rPr>
              <a:t>3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2 mmol/L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реатинин 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88.4 umol/L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еа 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4.8 mmol/L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луко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4.7 mmol/L; KKS b.o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SG 1.030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ма крв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ало протеи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лукозе и кето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реатини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30 umol/L, Na 30 mmol/L, FE</a:t>
            </a:r>
            <a:r>
              <a:rPr b="0" lang="sr-Latn-CS" sz="2200" spc="-1" strike="noStrike" baseline="-25000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0.62%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Процен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720108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б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тепе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хидра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ебрилнос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здражљивос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веде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арентерал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хидрациј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мере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хидра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8.4-7.5= 0.9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/10%)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окр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обр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поче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хидраци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I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аз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=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докнад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47280" y="512640"/>
            <a:ext cx="702468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Надокнада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76360" y="1196640"/>
            <a:ext cx="8028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&lt; 165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адокнада током 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48h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невне потреб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од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100mL/kg x 8.3kg = 830mL x 2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= 1660 mL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Na: 3mmol/100mL x 830 mL = 25mmol x 2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ана 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= 50 mmol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K: 2mmol/100mL x 830 mL = 17mmol x 2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= 34 mmol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ефицит из табел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од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8.4-7.5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kg= 0.9 x 100 mL = 900 mL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Na: 4 mmol x 8.4 kg = 33 mmol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K: 2 mmol x 8.4 kg = 17 mmol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купн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2560 mL vode + 83 mmol Na + 51 mmol K –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брзина инфузиј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50 mL/h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оком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48h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Раствор 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5% glc + 0.9% NaCl (4:1) + 20 mmolKCl/L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безбеђуј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20%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алоријских потреба/дан 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– 1.28L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м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50g glc – 50 x 4 cal = 200 cal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невне потребе с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8.4kg x 100cal/kg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5736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ЛЕЧЕЊЕ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ОДОЈЧЕТ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С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ХИПЕРНАТРИЈУМСКОМ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ДЕХИДРАЦИЈОМ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685800" y="1665360"/>
          <a:ext cx="7772400" cy="4717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84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рехидрациј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30-60 m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иповолемијски ш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mL/kg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зме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li 5%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бум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 4-5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. олигоануриј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10 mL/kg       (6: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 48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. нормална диуре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:1) + 7,4%KCl + 10% Calcihe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тходни губиц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150 mL/k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олошке потреб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2 mL/k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47640" y="872640"/>
            <a:ext cx="795672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Поремећаји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омеостазе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натријума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омеоста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д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јважниј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унк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убрег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внотеж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злта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нос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бубрежн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убит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лучивањ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убрег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лучив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убрег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ређу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омеостаз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лав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тјо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Ц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ДИСТРИБУЦИЈА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НАТРИЈУМА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У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ОРГАНИЗМУ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685800" y="2409840"/>
          <a:ext cx="7772400" cy="340668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M/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% </a:t>
                      </a: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укупног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379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кстраћелијс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9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лазм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79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терстицију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9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езивно тки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7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9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рансцелуларн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,5                 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                 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79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траћелијс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9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купн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07640" y="944640"/>
            <a:ext cx="702468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Унос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натријума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вис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схран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ц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вис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ултурн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злик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чи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ле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адрж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7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MF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7-12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20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a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oz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ормул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гула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иво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псорп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И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луко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ећа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псорпци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-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транспортер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76000" y="799920"/>
            <a:ext cx="7024680" cy="67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Излучивање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натријума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39640" y="1566720"/>
            <a:ext cx="8028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Излучуј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путем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столиц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зноја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најважниј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преко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бубрега</a:t>
            </a:r>
            <a:endParaRPr b="0" lang="en-US" sz="2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Зној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нормално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има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5-40 </a:t>
            </a:r>
            <a:r>
              <a:rPr b="0" lang="en-US" sz="23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3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а</a:t>
            </a:r>
            <a:endParaRPr b="0" lang="en-US" sz="2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Концентрација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3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зависи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равнотеж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организму</a:t>
            </a:r>
            <a:endParaRPr b="0" lang="en-US" sz="2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Пораст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осмолалности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волумена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стимулиш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осећај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жеђи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секрецију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300" spc="-1" strike="noStrike">
                <a:solidFill>
                  <a:srgbClr val="3e3d2d"/>
                </a:solidFill>
                <a:latin typeface="Century Gothic"/>
              </a:rPr>
              <a:t>ADH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али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волумена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има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предност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па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300" spc="-1" strike="noStrike">
                <a:solidFill>
                  <a:srgbClr val="3e3d2d"/>
                </a:solidFill>
                <a:latin typeface="Century Gothic"/>
              </a:rPr>
              <a:t>ADH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лучи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хипонатремији</a:t>
            </a:r>
            <a:endParaRPr b="0" lang="en-US" sz="2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Осмлалност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плазм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н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утич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излучивањ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3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преко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бубрега</a:t>
            </a:r>
            <a:endParaRPr b="0" lang="en-US" sz="2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Ефективни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волумен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плазм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одређуј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количину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3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урину</a:t>
            </a:r>
            <a:endParaRPr b="0" lang="en-US" sz="23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55480" y="654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Етиологија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поремећаја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регулације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N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а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у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плазми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774720" y="1603440"/>
          <a:ext cx="7772400" cy="50562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Хипонатремија испод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35mM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Хипернатремија изнад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50mM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Са смањеним циркулаторним вол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Јатрог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ипонатремијска дехидр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кутно тровањ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a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ипоалдостерониза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сипидни дијабете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еурохормонс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Са повећаним циркул. во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ефрог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нгестивна срчана инсуфицијен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индром хиподипсиј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ипернатрем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убрежна инсуфицијен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сенцијалн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еуроген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хипернатрем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Са нормалним циркулаторним волумен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ефротски синдро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з едем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42560" y="873000"/>
            <a:ext cx="7024680" cy="56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ернатремија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042920" y="1881000"/>
            <a:ext cx="71661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Чес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ц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рочит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астроентерити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нтрахоспитал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чест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атроген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мере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ш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начаја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орбидите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ледиц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к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новн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ремећа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ос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изи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штећењ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озг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сле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виш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рз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рек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2"/>
          <p:cNvSpPr/>
          <p:nvPr/>
        </p:nvSpPr>
        <p:spPr>
          <a:xfrm>
            <a:off x="1055520" y="2278080"/>
            <a:ext cx="6455160" cy="39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90%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ХРАН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10%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МЕТАБОЛИЧК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ВОД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       </a:t>
            </a:r>
            <a:r>
              <a:rPr b="1" lang="sl-SI" sz="3200" spc="-1" strike="noStrike" u="sng">
                <a:solidFill>
                  <a:srgbClr val="000000"/>
                </a:solidFill>
                <a:uFillTx/>
                <a:latin typeface="Century Gothic"/>
              </a:rPr>
              <a:t>100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Kcal</a:t>
            </a:r>
            <a:r>
              <a:rPr b="1" lang="sl-SI" sz="3200" spc="-1" strike="noStrike" u="sng">
                <a:solidFill>
                  <a:srgbClr val="000000"/>
                </a:solidFill>
                <a:uFillTx/>
                <a:latin typeface="Century Gothic"/>
              </a:rPr>
              <a:t> =  12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mL H2O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      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4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Kcal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1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g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Х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= 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о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,6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L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      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4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Kcal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1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g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П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.   =  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о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,4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      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9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Kcal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1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g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М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=   1,1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L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3435840" y="981000"/>
            <a:ext cx="25869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УНОС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ВО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07680" y="907560"/>
            <a:ext cx="80168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Патофизиологиј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ернатр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4800" y="1916280"/>
            <a:ext cx="77472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р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нов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еханиз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стана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иша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тријум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тријум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47640" y="1027080"/>
            <a:ext cx="781200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Kliničke manifestacije hipernatremije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47640" y="2205000"/>
            <a:ext cx="7812000" cy="36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Znaci dehidracije uz uglavnom očuvan intravaskularni volumen – blagi simptomi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I bez dehidracije, simptomi CNS-a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Iritabilnost, nemir, slabost, letargija, vriskav plač i hiperpnea (NN i odojlčad), žeđanje, mučnina; febrilnost, hiperglikemija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 u="sng">
                <a:solidFill>
                  <a:srgbClr val="3e3d2d"/>
                </a:solidFill>
                <a:uFillTx/>
                <a:latin typeface="Century Gothic"/>
              </a:rPr>
              <a:t>Moždano krvarenje je najteža posledica, tromboz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Mijelinoza ponsa je klasična posledica previše brze korekcij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47280" y="765000"/>
            <a:ext cx="7024680" cy="60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Дијагноз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ернатр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55480" y="1699920"/>
            <a:ext cx="814248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намнез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линичк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лика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чист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бубрезим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рин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разређен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билан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бубрежн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чист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смолалност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рин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&gt; 1000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Osm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дређивањ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ADH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ест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жеђањем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езмопресинск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ест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смолалност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рин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мањ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лазмин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+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хипернатремиј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потребан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ест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жеђањем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езмопресинск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ест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ратит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смолалност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рина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омбинован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3240" indent="-2700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бубрежн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мал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запремин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 &lt; 20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онцентрован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3240" indent="-2700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Бубрежн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запремин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адкватн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елик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довољн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онцентрован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овишен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10920" y="739440"/>
            <a:ext cx="7024680" cy="7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Терапиј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ернатр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21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пор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орекциј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0.5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/L/h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апад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због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едем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мозг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зауставит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хипотон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раствор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+ 3%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aCl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Чест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раћењ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ехидрациј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ајпрекориговат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В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олумен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ФР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3-4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L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вак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 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рек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145 – </a:t>
            </a:r>
            <a:r>
              <a:rPr b="0" i="1" lang="sr-RS" sz="2000" spc="-1" strike="noStrike">
                <a:solidFill>
                  <a:srgbClr val="3e3d2d"/>
                </a:solidFill>
                <a:latin typeface="Century Gothic"/>
              </a:rPr>
              <a:t>клиничка</a:t>
            </a:r>
            <a:r>
              <a:rPr b="0" i="1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000" spc="-1" strike="noStrike">
                <a:solidFill>
                  <a:srgbClr val="3e3d2d"/>
                </a:solidFill>
                <a:latin typeface="Century Gothic"/>
              </a:rPr>
              <a:t>валидност</a:t>
            </a:r>
            <a:r>
              <a:rPr b="0" i="1" lang="sr-Latn-CS" sz="2000" spc="-1" strike="noStrike">
                <a:solidFill>
                  <a:srgbClr val="3e3d2d"/>
                </a:solidFill>
                <a:latin typeface="Century Gothic"/>
              </a:rPr>
              <a:t>??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ат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1/4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ФР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0.2%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aCl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1/2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ФР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0.45%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aCl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оличин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ечност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20-50%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ећ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невних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отреба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хипотон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раствор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6:1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глц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ратећ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хипергликемиј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→ 2.5%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глукоза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ерапиј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хиперкалцемиј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колик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јави</a:t>
            </a:r>
            <a:r>
              <a:rPr b="0" lang="sr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→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Calcihept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47280" y="1027080"/>
            <a:ext cx="702468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онатремиј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47280" y="1988640"/>
            <a:ext cx="788508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Чес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ремећај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омеостаз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тријум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&lt; 135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/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куп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лес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Т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куп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лес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ТВ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ређу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натрем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ож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ста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туација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д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Т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ТВ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ниже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ормал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ишен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7" name=""/>
          <p:cNvGraphicFramePr/>
          <p:nvPr/>
        </p:nvGraphicFramePr>
        <p:xfrm>
          <a:off x="250920" y="1703520"/>
          <a:ext cx="8605800" cy="4856040"/>
        </p:xfrm>
        <a:graphic>
          <a:graphicData uri="http://schemas.openxmlformats.org/drawingml/2006/table">
            <a:tbl>
              <a:tblPr/>
              <a:tblGrid>
                <a:gridCol w="2152440"/>
                <a:gridCol w="6453360"/>
              </a:tblGrid>
              <a:tr h="226692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seudohiponatremija / hiperosmolarn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iperglikemija, Manitol, GIT poremećaji,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pekotine i znojenje, Gubici u treći prostor,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talni deficit aldostreona, Pseudohipoaldosteronizam tip I, Opstrukcija i/ili infekcija urotrakta, Tiazidni ili diuretici Henleove petlje, Osmotska diureza,Postopstruktivna diureza, Poliurična faza ATN, Juvenilna nefronoftiza, AR policistična bolest bubrega, Tubulointersticijski nefritis, Opstruktivna uropatija, Proksimalna RTA, Hiperkalemi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89532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ipovolemijska hiponatrem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ebubrežni gubici, Bubrežni gubici, Jatrogeno, Časovi plivanja, Zlostavljanje, Psihogena polidipsija, Razblažena AM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8904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uvolemijska hiponatrem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IADH, Desmopresin acetat, Deficit glukokortikoida, Hipotiroidizam, Trovanje vod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100476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ipervolemijska hiponatrem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ongestivna srčana slabost, Ciroza, Nefrotski sind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ubrežna insuficijencija, Kapilarno popuštanje u sepsi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ipoalbumiemija u bolestima GI trak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0560" y="799920"/>
            <a:ext cx="8605800" cy="601560"/>
          </a:xfrm>
          <a:prstGeom prst="rect">
            <a:avLst/>
          </a:prstGeom>
          <a:solidFill>
            <a:srgbClr val="ffffff"/>
          </a:solidFill>
          <a:ln w="28440">
            <a:solidFill>
              <a:srgbClr val="94c600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Етиологија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хипонатремије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47280" y="836640"/>
            <a:ext cx="797724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Клиничке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манифестације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хипонатремије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804996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онатрем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gt; ↓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смолалнос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Ц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елаза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Ц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стор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де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ћелиј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де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озг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ра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нтракранијалн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итис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ернијац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онзил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пне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руг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уролошк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имптом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норекс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учни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враћ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лабо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летарг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нфуз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гитац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лавобољ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пад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м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отрем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рчев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ишић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лабост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онатрем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разв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пор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оста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имптом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ЦНС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онатремијс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хидрац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имптом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хидрације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55280" y="1026720"/>
            <a:ext cx="702468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Дијагноза</a:t>
            </a:r>
            <a:r>
              <a:rPr b="0" lang="sr-Latn-CS" sz="32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хипонатр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719280" y="1881360"/>
            <a:ext cx="77040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Анамнез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дијареј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диуретиц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олиуриј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овред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глав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...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Јонограм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глкемиј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уре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реатинин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липидограм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Утврдит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осмолалност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лазм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линичк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манифестациј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настају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због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хипоосмолалност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ремештањ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ИЦ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одељак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957240" y="4122720"/>
          <a:ext cx="7367760" cy="2214720"/>
        </p:xfrm>
        <a:graphic>
          <a:graphicData uri="http://schemas.openxmlformats.org/drawingml/2006/table">
            <a:tbl>
              <a:tblPr/>
              <a:tblGrid>
                <a:gridCol w="3686040"/>
                <a:gridCol w="368172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Нормална осмолално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сеудохипонатремија</a:t>
                      </a: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: </a:t>
                      </a: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хипергликем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Хипоосмолалнос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“</a:t>
                      </a: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рава</a:t>
                      </a: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” </a:t>
                      </a: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хипонатрем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Хиперосмолалнос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Неефикасни осмоли повећавају осмолалност </a:t>
                      </a: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- </a:t>
                      </a: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уре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18920" y="1027080"/>
            <a:ext cx="702468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Дијагноза</a:t>
            </a:r>
            <a:r>
              <a:rPr b="0" lang="sr-Latn-CS" sz="32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хипонатр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4360" y="1881000"/>
            <a:ext cx="78120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валуа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луме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3240" indent="-27000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оволем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нац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хидрације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05040" indent="-2260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бубрежн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зроц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 &lt; 10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/L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05040" indent="-2260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Бубрежн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зроц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;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 &gt; 20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/L 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иуретиц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!?!;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метаболичк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лкалоз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→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одредит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Cl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)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3240" indent="-27000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ерволем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дем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сцитес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лућ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де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леурал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лив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ертенз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..)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ред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05040" indent="-2260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бичн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&lt; 10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/L,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сим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бубрежној инсуф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05040" indent="-2260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овишен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→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придружен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акутн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тубулск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некроза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3240" indent="-27000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уволем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76000" y="1027080"/>
            <a:ext cx="7024680" cy="56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Терапиј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онатр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39280" y="1808280"/>
            <a:ext cx="79930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674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шк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мптом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→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а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ерто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створ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рз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л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ећ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румск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4-6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L/kg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3%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NaC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јвиш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 130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/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5880" indent="-2674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тали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лучајеви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пор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рек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румск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централ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ијелино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нс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!)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не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повећавати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с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)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више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10-12-15 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mmol/L/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дан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осим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акутно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насталој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хипонатремији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(&lt;24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х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5880" indent="-2674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3e3d2d"/>
                </a:solidFill>
                <a:uFillTx/>
                <a:latin typeface="Century Gothic"/>
              </a:rPr>
              <a:t>Хиповолемијска</a:t>
            </a:r>
            <a:r>
              <a:rPr b="0" lang="sr-Latn-CS" sz="24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400" spc="-1" strike="noStrike" u="sng">
                <a:solidFill>
                  <a:srgbClr val="3e3d2d"/>
                </a:solidFill>
                <a:uFillTx/>
                <a:latin typeface="Century Gothic"/>
              </a:rPr>
              <a:t>хипонатрем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рап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натремијск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хидрациј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5880" indent="-2674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3e3d2d"/>
                </a:solidFill>
                <a:uFillTx/>
                <a:latin typeface="Century Gothic"/>
              </a:rPr>
              <a:t>Хиперволемијска</a:t>
            </a:r>
            <a:r>
              <a:rPr b="0" lang="sr-Latn-CS" sz="24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400" spc="-1" strike="noStrike" u="sng">
                <a:solidFill>
                  <a:srgbClr val="3e3d2d"/>
                </a:solidFill>
                <a:uFillTx/>
                <a:latin typeface="Century Gothic"/>
              </a:rPr>
              <a:t>хипонатрем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стрик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иуретиц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лбуми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рапија срча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нсуфицијен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ијализ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15:48:05Z</dcterms:created>
  <dc:creator>No Name</dc:creator>
  <dc:description/>
  <dc:language>en-US</dc:language>
  <cp:lastModifiedBy>User</cp:lastModifiedBy>
  <dcterms:modified xsi:type="dcterms:W3CDTF">2017-09-05T15:01:09Z</dcterms:modified>
  <cp:revision>109</cp:revision>
  <dc:subject/>
  <dc:title>PowerPoint Presentation</dc:title>
</cp:coreProperties>
</file>